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gif" ContentType="image/gif"/>
  <Override PartName="/ppt/media/image20.png" ContentType="image/png"/>
  <Override PartName="/ppt/media/image18.wmf" ContentType="image/x-wmf"/>
  <Override PartName="/ppt/media/image2.jpeg" ContentType="image/jpeg"/>
  <Override PartName="/ppt/media/image19.wmf" ContentType="image/x-wmf"/>
  <Override PartName="/ppt/media/image29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6.gif" ContentType="image/gif"/>
  <Override PartName="/ppt/media/image14.wmf" ContentType="image/x-wmf"/>
  <Override PartName="/ppt/media/image15.wmf" ContentType="image/x-wmf"/>
  <Override PartName="/ppt/media/image1.jpeg" ContentType="image/jpeg"/>
  <Override PartName="/ppt/media/image31.gif" ContentType="image/gif"/>
  <Override PartName="/ppt/media/image40.jpeg" ContentType="image/jpeg"/>
  <Override PartName="/ppt/media/image32.gif" ContentType="image/gif"/>
  <Override PartName="/ppt/media/image33.gif" ContentType="image/gif"/>
  <Override PartName="/ppt/media/image36.gif" ContentType="image/gif"/>
  <Override PartName="/ppt/media/image13.wmf" ContentType="image/x-wmf"/>
  <Override PartName="/ppt/media/image25.gif" ContentType="image/gif"/>
  <Override PartName="/ppt/media/image30.gif" ContentType="image/gif"/>
  <Override PartName="/ppt/media/image39.jpeg" ContentType="image/jpeg"/>
  <Override PartName="/ppt/media/image41.wmf" ContentType="image/x-wmf"/>
  <Override PartName="/ppt/media/image42.png" ContentType="image/png"/>
  <Override PartName="/ppt/media/image9.wmf" ContentType="image/x-wmf"/>
  <Override PartName="/ppt/media/image35.gif" ContentType="image/gif"/>
  <Override PartName="/ppt/media/image43.jpeg" ContentType="image/jpeg"/>
  <Override PartName="/ppt/media/image8.wmf" ContentType="image/x-wmf"/>
  <Override PartName="/ppt/media/image12.wmf" ContentType="image/x-wmf"/>
  <Override PartName="/ppt/media/image24.gif" ContentType="image/gif"/>
  <Override PartName="/ppt/media/image27.png" ContentType="image/png"/>
  <Override PartName="/ppt/media/image34.gif" ContentType="image/gif"/>
  <Override PartName="/ppt/media/image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7.gif" ContentType="image/gif"/>
  <Override PartName="/ppt/media/image3.wmf" ContentType="image/x-wmf"/>
  <Override PartName="/ppt/media/image4.wmf" ContentType="image/x-wmf"/>
  <Override PartName="/ppt/media/image3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645-C14D-43C7-8528-C62CB3A8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65C-89CA-4904-B80F-44D4786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EDB-5B8F-4479-998F-0C17452C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EE5-D81F-47EF-9295-BE11EB37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FE18-A24F-4BA9-AAA5-3C6DC46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0004-EAB8-4460-953E-47832E2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E67F-AC73-41FC-A1CA-7257A0B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D79-D760-465F-845A-7493B27E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1698-2073-4BD9-938D-F3F80DB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691E-7779-4C47-9B2A-AB40478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12EF-C087-4DE5-A6F6-6EDA904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323-1522-49B4-B324-4D1E742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4367-D9F4-4995-B780-C2251772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FE35-BBE5-4ADA-8373-907E1295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0EC-0029-49CB-B233-6068F84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984C-1960-495A-80D4-BE5A8BB5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1D7-43BE-4FCD-AD59-665E5AD6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1F1-9AF2-4C74-80B2-DA97410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09E-1BFF-49EC-9A07-65F13F8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8B3-475F-4BC7-8D22-FF1E28E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242-CDEA-4C93-BA64-4261E6A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2F6-6330-44FB-93EF-16431BB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110-01A4-437C-9E9F-6D40298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728-3C18-4DE6-BEED-BC94654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829-1747-4948-8B45-D9A510B03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9D3-7B6D-433D-B1F8-7F8089052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" Target="slide2.xm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" Target="slide6.xml"/><Relationship Id="rId5" Type="http://schemas.openxmlformats.org/officeDocument/2006/relationships/image" Target="../media/image5.wmf"/><Relationship Id="rId6" Type="http://schemas.openxmlformats.org/officeDocument/2006/relationships/slide" Target="slide7.xml"/><Relationship Id="rId7" Type="http://schemas.openxmlformats.org/officeDocument/2006/relationships/image" Target="../media/image6.wmf"/><Relationship Id="rId8" Type="http://schemas.openxmlformats.org/officeDocument/2006/relationships/slide" Target="slide8.xml"/><Relationship Id="rId9" Type="http://schemas.openxmlformats.org/officeDocument/2006/relationships/image" Target="../media/image7.wmf"/><Relationship Id="rId10" Type="http://schemas.openxmlformats.org/officeDocument/2006/relationships/slide" Target="slide9.xml"/><Relationship Id="rId11" Type="http://schemas.openxmlformats.org/officeDocument/2006/relationships/image" Target="../media/image8.wmf"/><Relationship Id="rId12" Type="http://schemas.openxmlformats.org/officeDocument/2006/relationships/slide" Target="slide10.xml"/><Relationship Id="rId13" Type="http://schemas.openxmlformats.org/officeDocument/2006/relationships/image" Target="../media/image9.wmf"/><Relationship Id="rId14" Type="http://schemas.openxmlformats.org/officeDocument/2006/relationships/slide" Target="slide11.xml"/><Relationship Id="rId15" Type="http://schemas.openxmlformats.org/officeDocument/2006/relationships/image" Target="../media/image10.wmf"/><Relationship Id="rId16" Type="http://schemas.openxmlformats.org/officeDocument/2006/relationships/slide" Target="slide12.xml"/><Relationship Id="rId17" Type="http://schemas.openxmlformats.org/officeDocument/2006/relationships/image" Target="../media/image11.wmf"/><Relationship Id="rId18" Type="http://schemas.openxmlformats.org/officeDocument/2006/relationships/slide" Target="slide13.xml"/><Relationship Id="rId19" Type="http://schemas.openxmlformats.org/officeDocument/2006/relationships/image" Target="../media/image12.wmf"/><Relationship Id="rId20" Type="http://schemas.openxmlformats.org/officeDocument/2006/relationships/slide" Target="slide14.xml"/><Relationship Id="rId21" Type="http://schemas.openxmlformats.org/officeDocument/2006/relationships/image" Target="../media/image13.wmf"/><Relationship Id="rId22" Type="http://schemas.openxmlformats.org/officeDocument/2006/relationships/slide" Target="slide15.xml"/><Relationship Id="rId23" Type="http://schemas.openxmlformats.org/officeDocument/2006/relationships/image" Target="../media/image14.wmf"/><Relationship Id="rId24" Type="http://schemas.openxmlformats.org/officeDocument/2006/relationships/slide" Target="slide16.xml"/><Relationship Id="rId25" Type="http://schemas.openxmlformats.org/officeDocument/2006/relationships/image" Target="../media/image15.wmf"/><Relationship Id="rId26" Type="http://schemas.openxmlformats.org/officeDocument/2006/relationships/slide" Target="slide17.xml"/><Relationship Id="rId27" Type="http://schemas.openxmlformats.org/officeDocument/2006/relationships/image" Target="../media/image16.wmf"/><Relationship Id="rId28" Type="http://schemas.openxmlformats.org/officeDocument/2006/relationships/slide" Target="slide18.xml"/><Relationship Id="rId29" Type="http://schemas.openxmlformats.org/officeDocument/2006/relationships/image" Target="../media/image17.wmf"/><Relationship Id="rId30" Type="http://schemas.openxmlformats.org/officeDocument/2006/relationships/slide" Target="slide19.xml"/><Relationship Id="rId31" Type="http://schemas.openxmlformats.org/officeDocument/2006/relationships/image" Target="../media/image18.wmf"/><Relationship Id="rId32" Type="http://schemas.openxmlformats.org/officeDocument/2006/relationships/slide" Target="slide20.xml"/><Relationship Id="rId33" Type="http://schemas.openxmlformats.org/officeDocument/2006/relationships/image" Target="../media/image19.wmf"/><Relationship Id="rId34" Type="http://schemas.openxmlformats.org/officeDocument/2006/relationships/slide" Target="slide4.xml"/><Relationship Id="rId35" Type="http://schemas.openxmlformats.org/officeDocument/2006/relationships/slide" Target="slide5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slide35.xml"/><Relationship Id="rId15" Type="http://schemas.openxmlformats.org/officeDocument/2006/relationships/slide" Target="slide36.xml"/><Relationship Id="rId16" Type="http://schemas.openxmlformats.org/officeDocument/2006/relationships/slide" Target="slide37.xml"/><Relationship Id="rId17" Type="http://schemas.openxmlformats.org/officeDocument/2006/relationships/slide" Target="slide38.xml"/><Relationship Id="rId18" Type="http://schemas.openxmlformats.org/officeDocument/2006/relationships/slide" Target="slide39.xml"/><Relationship Id="rId19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58.xml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hyperlink" Target="http://bp1.blogger.com/_JmsnoOMVhh4/R0o9n4R2tSI/AAAAAAAAAZU/VUFo6CySiOs/s400/bsilvia_grunge_stars_photoshop_brush.jpg" TargetMode="External"/><Relationship Id="rId4" Type="http://schemas.openxmlformats.org/officeDocument/2006/relationships/image" Target="../media/image40.jpe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slide" Target="slide63.xml"/><Relationship Id="rId6" Type="http://schemas.openxmlformats.org/officeDocument/2006/relationships/slide" Target="slide64.xml"/><Relationship Id="rId7" Type="http://schemas.openxmlformats.org/officeDocument/2006/relationships/slide" Target="slide65.xml"/><Relationship Id="rId8" Type="http://schemas.openxmlformats.org/officeDocument/2006/relationships/slide" Target="slide66.xml"/><Relationship Id="rId9" Type="http://schemas.openxmlformats.org/officeDocument/2006/relationships/slide" Target="slide67.xml"/><Relationship Id="rId10" Type="http://schemas.openxmlformats.org/officeDocument/2006/relationships/slide" Target="slide68.xml"/><Relationship Id="rId11" Type="http://schemas.openxmlformats.org/officeDocument/2006/relationships/slide" Target="slide69.xml"/><Relationship Id="rId12" Type="http://schemas.openxmlformats.org/officeDocument/2006/relationships/slide" Target="slide70.xml"/><Relationship Id="rId13" Type="http://schemas.openxmlformats.org/officeDocument/2006/relationships/slide" Target="slide71.xml"/><Relationship Id="rId14" Type="http://schemas.openxmlformats.org/officeDocument/2006/relationships/slide" Target="slide72.xml"/><Relationship Id="rId15" Type="http://schemas.openxmlformats.org/officeDocument/2006/relationships/slide" Target="slide73.xml"/><Relationship Id="rId16" Type="http://schemas.openxmlformats.org/officeDocument/2006/relationships/slide" Target="slide74.xml"/><Relationship Id="rId17" Type="http://schemas.openxmlformats.org/officeDocument/2006/relationships/slide" Target="slide75.xml"/><Relationship Id="rId18" Type="http://schemas.openxmlformats.org/officeDocument/2006/relationships/slide" Target="slide76.xml"/><Relationship Id="rId1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" Target="slide11.xml"/><Relationship Id="rId4" Type="http://schemas.openxmlformats.org/officeDocument/2006/relationships/image" Target="../media/image10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" Target="slide7.xml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slideLayout" Target="../slideLayouts/slideLayout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slideLayout" Target="../slideLayouts/slideLayout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" Target="slide12.xml"/><Relationship Id="rId4" Type="http://schemas.openxmlformats.org/officeDocument/2006/relationships/image" Target="../media/image11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" Target="slide10.xml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" Target="slide18.xml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" Target="slide20.xml"/><Relationship Id="rId4" Type="http://schemas.openxmlformats.org/officeDocument/2006/relationships/image" Target="../media/image19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" Target="slide15.xml"/><Relationship Id="rId4" Type="http://schemas.openxmlformats.org/officeDocument/2006/relationships/image" Target="../media/image14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" Target="slide17.xml"/><Relationship Id="rId4" Type="http://schemas.openxmlformats.org/officeDocument/2006/relationships/image" Target="../media/image16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" Target="slide13.xml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" Target="slide9.xml"/><Relationship Id="rId4" Type="http://schemas.openxmlformats.org/officeDocument/2006/relationships/image" Target="../media/image8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" Target="slide16.xml"/><Relationship Id="rId4" Type="http://schemas.openxmlformats.org/officeDocument/2006/relationships/image" Target="../media/image15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" Target="slide8.xml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" Target="slide14.xml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slide" Target="slide19.xml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slideLayout" Target="../slideLayouts/slideLayout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hyperlink" Target="http://bp1.blogger.com/_JmsnoOMVhh4/R0o9n4R2tSI/AAAAAAAAAZU/VUFo6CySiOs/s400/bsilvia_grunge_stars_photoshop_brush.jpg" TargetMode="External"/><Relationship Id="rId4" Type="http://schemas.openxmlformats.org/officeDocument/2006/relationships/image" Target="../media/image40.jpeg"/><Relationship Id="rId5" Type="http://schemas.openxmlformats.org/officeDocument/2006/relationships/slide" Target="slide59.xml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5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8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sidents of the United State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7010280" cy="1067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lie Hranic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dine B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William Howard Taf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stuck in his batht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a Supreme Court Ju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in the bathtub, playing with the rubber d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495680"/>
            <a:ext cx="165888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4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alvin Coolidg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d “Silent 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riding the horse in the cowboy outf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33920" y="4589640"/>
            <a:ext cx="1928520" cy="171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648320" y="5410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0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ranklin D. Roosevel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y e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from polio and used a wheelc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dy - Eleanor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the country out of the Great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unhappily eating broccol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800600"/>
            <a:ext cx="156816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5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John F. Kennedy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d a wounded soldiers life in the navy during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young people to get involved in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is nose was made out of a flip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956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4952880"/>
            <a:ext cx="135576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85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ichard Nix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d crimes in office and lied about them to the people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gned from the White 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se face was created by using a tape recor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114800" y="56386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5105520"/>
            <a:ext cx="1638360" cy="13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8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rald For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r football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president after Nixon re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dignity to honor to 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is face was made out of ski equip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480060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8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Jimmy Carter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help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toward equal rights for minorities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th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sitting on top of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5943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4419720"/>
            <a:ext cx="2087280" cy="18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26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nald Reaga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ovie star to becom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ted the first woman Supreme Court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ith the chimpanz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724280"/>
            <a:ext cx="15303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3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Bush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dance in 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pilot in the Navy to receive his 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st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dancing with his w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242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4495680"/>
            <a:ext cx="1819440" cy="16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78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Bill Clint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d to talk and 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his hand a lot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nd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eating apple p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2680" y="4343400"/>
            <a:ext cx="2194200" cy="14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47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0096"/>
                </a:solidFill>
                <a:latin typeface="Arial"/>
              </a:rPr>
              <a:t>The Presidential Class </a:t>
            </a:r>
            <a:br>
              <a:rPr sz="3200"/>
            </a:br>
            <a:r>
              <a:rPr b="1" lang="en-US" sz="3200" spc="-1" strike="noStrike">
                <a:solidFill>
                  <a:srgbClr val="360096"/>
                </a:solidFill>
                <a:latin typeface="Arial"/>
              </a:rPr>
              <a:t>1789-2008</a:t>
            </a:r>
            <a:endParaRPr b="1" lang="en-US" sz="3200" spc="-1" strike="noStrike">
              <a:solidFill>
                <a:srgbClr val="36009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12459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76920" y="1523880"/>
            <a:ext cx="1218960" cy="102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48520" y="1523880"/>
            <a:ext cx="121896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20120" y="1523880"/>
            <a:ext cx="121896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21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133720" y="320040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5053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8769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248520" y="3200400"/>
            <a:ext cx="1218960" cy="1052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620120" y="3200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621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1337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5053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876920" y="48006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248520" y="48006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lysses S. G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25909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vin Cool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343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4343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59436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4" action="ppaction://hlinksldjump"/>
          </p:cNvPr>
          <p:cNvSpPr/>
          <p:nvPr/>
        </p:nvSpPr>
        <p:spPr>
          <a:xfrm>
            <a:off x="762120" y="152388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5" action="ppaction://hlinksldjump"/>
          </p:cNvPr>
          <p:cNvSpPr/>
          <p:nvPr/>
        </p:nvSpPr>
        <p:spPr>
          <a:xfrm>
            <a:off x="220968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6" action="ppaction://hlinksldjump"/>
          </p:cNvPr>
          <p:cNvSpPr/>
          <p:nvPr/>
        </p:nvSpPr>
        <p:spPr>
          <a:xfrm>
            <a:off x="7696080" y="49528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80ff"/>
              </a:gs>
              <a:gs pos="50000">
                <a:srgbClr val="ff0000"/>
              </a:gs>
              <a:gs pos="100000">
                <a:srgbClr val="008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W. Bush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esident to own a baseball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during the attacks on the World Trade Center on 9/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rd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had a hot dog for a no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526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Name that Preside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ques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 and pick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 correct move on to the nex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 incorrect go back and pick the correc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56386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3809880" y="56386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i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f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685800" y="1752480"/>
            <a:ext cx="2819520" cy="381240"/>
          </a:xfrm>
          <a:custGeom>
            <a:avLst/>
            <a:gdLst>
              <a:gd name="textAreaLeft" fmla="*/ 24480 w 2819520"/>
              <a:gd name="textAreaRight" fmla="*/ 2795040 w 2819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9616" h="21600">
                <a:moveTo>
                  <a:pt x="0" y="0"/>
                </a:moveTo>
                <a:lnTo>
                  <a:pt x="159616" y="0"/>
                </a:lnTo>
                <a:lnTo>
                  <a:pt x="159616" y="21600"/>
                </a:lnTo>
                <a:lnTo>
                  <a:pt x="0" y="21600"/>
                </a:lnTo>
                <a:close/>
              </a:path>
              <a:path fill="lightenLess" w="159616" h="21600">
                <a:moveTo>
                  <a:pt x="0" y="0"/>
                </a:moveTo>
                <a:lnTo>
                  <a:pt x="159616" y="0"/>
                </a:lnTo>
                <a:lnTo>
                  <a:pt x="158216" y="1400"/>
                </a:lnTo>
                <a:lnTo>
                  <a:pt x="1400" y="1400"/>
                </a:lnTo>
                <a:close/>
              </a:path>
              <a:path fill="darken" w="159616" h="21600">
                <a:moveTo>
                  <a:pt x="159616" y="0"/>
                </a:moveTo>
                <a:lnTo>
                  <a:pt x="159616" y="21600"/>
                </a:lnTo>
                <a:lnTo>
                  <a:pt x="158216" y="20200"/>
                </a:lnTo>
                <a:lnTo>
                  <a:pt x="158216" y="1400"/>
                </a:lnTo>
                <a:close/>
              </a:path>
              <a:path fill="darkenLess" w="159616" h="21600">
                <a:moveTo>
                  <a:pt x="159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8216" y="20200"/>
                </a:lnTo>
                <a:close/>
              </a:path>
              <a:path fill="lighten" w="159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685800" y="2286000"/>
            <a:ext cx="2819520" cy="304920"/>
          </a:xfrm>
          <a:custGeom>
            <a:avLst/>
            <a:gdLst>
              <a:gd name="textAreaLeft" fmla="*/ 19440 w 2819520"/>
              <a:gd name="textAreaRight" fmla="*/ 2800080 w 2819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99520" h="21600">
                <a:moveTo>
                  <a:pt x="0" y="0"/>
                </a:moveTo>
                <a:lnTo>
                  <a:pt x="199520" y="0"/>
                </a:lnTo>
                <a:lnTo>
                  <a:pt x="199520" y="21600"/>
                </a:lnTo>
                <a:lnTo>
                  <a:pt x="0" y="21600"/>
                </a:lnTo>
                <a:close/>
              </a:path>
              <a:path fill="lightenLess" w="199520" h="21600">
                <a:moveTo>
                  <a:pt x="0" y="0"/>
                </a:moveTo>
                <a:lnTo>
                  <a:pt x="199520" y="0"/>
                </a:lnTo>
                <a:lnTo>
                  <a:pt x="198120" y="1400"/>
                </a:lnTo>
                <a:lnTo>
                  <a:pt x="1400" y="1400"/>
                </a:lnTo>
                <a:close/>
              </a:path>
              <a:path fill="darken" w="199520" h="21600">
                <a:moveTo>
                  <a:pt x="199520" y="0"/>
                </a:moveTo>
                <a:lnTo>
                  <a:pt x="199520" y="21600"/>
                </a:lnTo>
                <a:lnTo>
                  <a:pt x="198120" y="20200"/>
                </a:lnTo>
                <a:lnTo>
                  <a:pt x="198120" y="1400"/>
                </a:lnTo>
                <a:close/>
              </a:path>
              <a:path fill="darkenLess" w="199520" h="21600">
                <a:moveTo>
                  <a:pt x="199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120" y="20200"/>
                </a:lnTo>
                <a:close/>
              </a:path>
              <a:path fill="lighten" w="199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685800" y="2819520"/>
            <a:ext cx="3252960" cy="380880"/>
          </a:xfrm>
          <a:custGeom>
            <a:avLst/>
            <a:gdLst>
              <a:gd name="textAreaLeft" fmla="*/ 24480 w 3252960"/>
              <a:gd name="textAreaRight" fmla="*/ 3228480 w 325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4324" h="21600">
                <a:moveTo>
                  <a:pt x="0" y="0"/>
                </a:moveTo>
                <a:lnTo>
                  <a:pt x="184324" y="0"/>
                </a:lnTo>
                <a:lnTo>
                  <a:pt x="184324" y="21600"/>
                </a:lnTo>
                <a:lnTo>
                  <a:pt x="0" y="21600"/>
                </a:lnTo>
                <a:close/>
              </a:path>
              <a:path fill="lightenLess" w="184324" h="21600">
                <a:moveTo>
                  <a:pt x="0" y="0"/>
                </a:moveTo>
                <a:lnTo>
                  <a:pt x="184324" y="0"/>
                </a:lnTo>
                <a:lnTo>
                  <a:pt x="182924" y="1400"/>
                </a:lnTo>
                <a:lnTo>
                  <a:pt x="1400" y="1400"/>
                </a:lnTo>
                <a:close/>
              </a:path>
              <a:path fill="darken" w="184324" h="21600">
                <a:moveTo>
                  <a:pt x="184324" y="0"/>
                </a:moveTo>
                <a:lnTo>
                  <a:pt x="184324" y="21600"/>
                </a:lnTo>
                <a:lnTo>
                  <a:pt x="182924" y="20200"/>
                </a:lnTo>
                <a:lnTo>
                  <a:pt x="182924" y="1400"/>
                </a:lnTo>
                <a:close/>
              </a:path>
              <a:path fill="darkenLess" w="184324" h="21600">
                <a:moveTo>
                  <a:pt x="18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924" y="20200"/>
                </a:lnTo>
                <a:close/>
              </a:path>
              <a:path fill="lighten" w="18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685800" y="327672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685800" y="38098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7" action="ppaction://hlinksldjump"/>
          </p:cNvPr>
          <p:cNvSpPr/>
          <p:nvPr/>
        </p:nvSpPr>
        <p:spPr>
          <a:xfrm>
            <a:off x="685800" y="4343400"/>
            <a:ext cx="2514600" cy="380880"/>
          </a:xfrm>
          <a:custGeom>
            <a:avLst/>
            <a:gdLst>
              <a:gd name="textAreaLeft" fmla="*/ 24480 w 2514600"/>
              <a:gd name="textAreaRight" fmla="*/ 2490120 w 2514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2491" h="21600">
                <a:moveTo>
                  <a:pt x="0" y="0"/>
                </a:moveTo>
                <a:lnTo>
                  <a:pt x="142491" y="0"/>
                </a:lnTo>
                <a:lnTo>
                  <a:pt x="142491" y="21600"/>
                </a:lnTo>
                <a:lnTo>
                  <a:pt x="0" y="21600"/>
                </a:lnTo>
                <a:close/>
              </a:path>
              <a:path fill="lightenLess" w="142491" h="21600">
                <a:moveTo>
                  <a:pt x="0" y="0"/>
                </a:moveTo>
                <a:lnTo>
                  <a:pt x="142491" y="0"/>
                </a:lnTo>
                <a:lnTo>
                  <a:pt x="141091" y="1400"/>
                </a:lnTo>
                <a:lnTo>
                  <a:pt x="1400" y="1400"/>
                </a:lnTo>
                <a:close/>
              </a:path>
              <a:path fill="darken" w="142491" h="21600">
                <a:moveTo>
                  <a:pt x="142491" y="0"/>
                </a:moveTo>
                <a:lnTo>
                  <a:pt x="142491" y="21600"/>
                </a:lnTo>
                <a:lnTo>
                  <a:pt x="141091" y="20200"/>
                </a:lnTo>
                <a:lnTo>
                  <a:pt x="141091" y="1400"/>
                </a:lnTo>
                <a:close/>
              </a:path>
              <a:path fill="darkenLess" w="142491" h="21600">
                <a:moveTo>
                  <a:pt x="14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091" y="20200"/>
                </a:lnTo>
                <a:close/>
              </a:path>
              <a:path fill="lighten" w="14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8" action="ppaction://hlinksldjump"/>
          </p:cNvPr>
          <p:cNvSpPr/>
          <p:nvPr/>
        </p:nvSpPr>
        <p:spPr>
          <a:xfrm>
            <a:off x="685800" y="4876920"/>
            <a:ext cx="2971800" cy="30456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0543" h="21600">
                <a:moveTo>
                  <a:pt x="0" y="0"/>
                </a:moveTo>
                <a:lnTo>
                  <a:pt x="210543" y="0"/>
                </a:lnTo>
                <a:lnTo>
                  <a:pt x="210543" y="21600"/>
                </a:lnTo>
                <a:lnTo>
                  <a:pt x="0" y="21600"/>
                </a:lnTo>
                <a:close/>
              </a:path>
              <a:path fill="lightenLess" w="210543" h="21600">
                <a:moveTo>
                  <a:pt x="0" y="0"/>
                </a:moveTo>
                <a:lnTo>
                  <a:pt x="210543" y="0"/>
                </a:lnTo>
                <a:lnTo>
                  <a:pt x="209143" y="1400"/>
                </a:lnTo>
                <a:lnTo>
                  <a:pt x="1400" y="1400"/>
                </a:lnTo>
                <a:close/>
              </a:path>
              <a:path fill="darken" w="210543" h="21600">
                <a:moveTo>
                  <a:pt x="210543" y="0"/>
                </a:moveTo>
                <a:lnTo>
                  <a:pt x="210543" y="21600"/>
                </a:lnTo>
                <a:lnTo>
                  <a:pt x="209143" y="20200"/>
                </a:lnTo>
                <a:lnTo>
                  <a:pt x="209143" y="1400"/>
                </a:lnTo>
                <a:close/>
              </a:path>
              <a:path fill="darkenLess" w="210543" h="21600">
                <a:moveTo>
                  <a:pt x="210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3" y="20200"/>
                </a:lnTo>
                <a:close/>
              </a:path>
              <a:path fill="lighten" w="210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9" action="ppaction://hlinksldjump"/>
          </p:cNvPr>
          <p:cNvSpPr/>
          <p:nvPr/>
        </p:nvSpPr>
        <p:spPr>
          <a:xfrm>
            <a:off x="685800" y="53341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685800" y="58672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1" action="ppaction://hlinksldjump"/>
          </p:cNvPr>
          <p:cNvSpPr/>
          <p:nvPr/>
        </p:nvSpPr>
        <p:spPr>
          <a:xfrm>
            <a:off x="4572000" y="1905120"/>
            <a:ext cx="2643120" cy="457200"/>
          </a:xfrm>
          <a:custGeom>
            <a:avLst/>
            <a:gdLst>
              <a:gd name="textAreaLeft" fmla="*/ 29520 w 2643120"/>
              <a:gd name="textAreaRight" fmla="*/ 2613600 w 26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4791" h="21600">
                <a:moveTo>
                  <a:pt x="0" y="0"/>
                </a:moveTo>
                <a:lnTo>
                  <a:pt x="124791" y="0"/>
                </a:lnTo>
                <a:lnTo>
                  <a:pt x="124791" y="21600"/>
                </a:lnTo>
                <a:lnTo>
                  <a:pt x="0" y="21600"/>
                </a:lnTo>
                <a:close/>
              </a:path>
              <a:path fill="lightenLess" w="124791" h="21600">
                <a:moveTo>
                  <a:pt x="0" y="0"/>
                </a:moveTo>
                <a:lnTo>
                  <a:pt x="124791" y="0"/>
                </a:lnTo>
                <a:lnTo>
                  <a:pt x="123391" y="1400"/>
                </a:lnTo>
                <a:lnTo>
                  <a:pt x="1400" y="1400"/>
                </a:lnTo>
                <a:close/>
              </a:path>
              <a:path fill="darken" w="124791" h="21600">
                <a:moveTo>
                  <a:pt x="124791" y="0"/>
                </a:moveTo>
                <a:lnTo>
                  <a:pt x="124791" y="21600"/>
                </a:lnTo>
                <a:lnTo>
                  <a:pt x="123391" y="20200"/>
                </a:lnTo>
                <a:lnTo>
                  <a:pt x="123391" y="1400"/>
                </a:lnTo>
                <a:close/>
              </a:path>
              <a:path fill="darkenLess" w="124791" h="21600">
                <a:moveTo>
                  <a:pt x="12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91" y="20200"/>
                </a:lnTo>
                <a:close/>
              </a:path>
              <a:path fill="lighten" w="12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2" action="ppaction://hlinksldjump"/>
          </p:cNvPr>
          <p:cNvSpPr/>
          <p:nvPr/>
        </p:nvSpPr>
        <p:spPr>
          <a:xfrm>
            <a:off x="4572000" y="2438280"/>
            <a:ext cx="3124080" cy="381240"/>
          </a:xfrm>
          <a:custGeom>
            <a:avLst/>
            <a:gdLst>
              <a:gd name="textAreaLeft" fmla="*/ 24480 w 3124080"/>
              <a:gd name="textAreaRight" fmla="*/ 3099600 w 31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6855" h="21600">
                <a:moveTo>
                  <a:pt x="0" y="0"/>
                </a:moveTo>
                <a:lnTo>
                  <a:pt x="176855" y="0"/>
                </a:lnTo>
                <a:lnTo>
                  <a:pt x="176855" y="21600"/>
                </a:lnTo>
                <a:lnTo>
                  <a:pt x="0" y="21600"/>
                </a:lnTo>
                <a:close/>
              </a:path>
              <a:path fill="lightenLess" w="176855" h="21600">
                <a:moveTo>
                  <a:pt x="0" y="0"/>
                </a:moveTo>
                <a:lnTo>
                  <a:pt x="176855" y="0"/>
                </a:lnTo>
                <a:lnTo>
                  <a:pt x="175455" y="1400"/>
                </a:lnTo>
                <a:lnTo>
                  <a:pt x="1400" y="1400"/>
                </a:lnTo>
                <a:close/>
              </a:path>
              <a:path fill="darken" w="176855" h="21600">
                <a:moveTo>
                  <a:pt x="176855" y="0"/>
                </a:moveTo>
                <a:lnTo>
                  <a:pt x="176855" y="21600"/>
                </a:lnTo>
                <a:lnTo>
                  <a:pt x="175455" y="20200"/>
                </a:lnTo>
                <a:lnTo>
                  <a:pt x="175455" y="1400"/>
                </a:lnTo>
                <a:close/>
              </a:path>
              <a:path fill="darkenLess" w="176855" h="21600">
                <a:moveTo>
                  <a:pt x="176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455" y="20200"/>
                </a:lnTo>
                <a:close/>
              </a:path>
              <a:path fill="lighten" w="176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3" action="ppaction://hlinksldjump"/>
          </p:cNvPr>
          <p:cNvSpPr/>
          <p:nvPr/>
        </p:nvSpPr>
        <p:spPr>
          <a:xfrm>
            <a:off x="4572000" y="297180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4" action="ppaction://hlinksldjump"/>
          </p:cNvPr>
          <p:cNvSpPr/>
          <p:nvPr/>
        </p:nvSpPr>
        <p:spPr>
          <a:xfrm>
            <a:off x="4572000" y="3429000"/>
            <a:ext cx="3352680" cy="380880"/>
          </a:xfrm>
          <a:custGeom>
            <a:avLst/>
            <a:gdLst>
              <a:gd name="textAreaLeft" fmla="*/ 24480 w 3352680"/>
              <a:gd name="textAreaRight" fmla="*/ 3328200 w 3352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5" action="ppaction://hlinksldjump"/>
          </p:cNvPr>
          <p:cNvSpPr/>
          <p:nvPr/>
        </p:nvSpPr>
        <p:spPr>
          <a:xfrm>
            <a:off x="4572000" y="3886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6" action="ppaction://hlinksldjump"/>
          </p:cNvPr>
          <p:cNvSpPr/>
          <p:nvPr/>
        </p:nvSpPr>
        <p:spPr>
          <a:xfrm>
            <a:off x="4648320" y="4495680"/>
            <a:ext cx="2971800" cy="30492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0294" h="21600">
                <a:moveTo>
                  <a:pt x="0" y="0"/>
                </a:moveTo>
                <a:lnTo>
                  <a:pt x="210294" y="0"/>
                </a:lnTo>
                <a:lnTo>
                  <a:pt x="210294" y="21600"/>
                </a:lnTo>
                <a:lnTo>
                  <a:pt x="0" y="21600"/>
                </a:lnTo>
                <a:close/>
              </a:path>
              <a:path fill="lightenLess" w="210294" h="21600">
                <a:moveTo>
                  <a:pt x="0" y="0"/>
                </a:moveTo>
                <a:lnTo>
                  <a:pt x="210294" y="0"/>
                </a:lnTo>
                <a:lnTo>
                  <a:pt x="208894" y="1400"/>
                </a:lnTo>
                <a:lnTo>
                  <a:pt x="1400" y="1400"/>
                </a:lnTo>
                <a:close/>
              </a:path>
              <a:path fill="darken" w="210294" h="21600">
                <a:moveTo>
                  <a:pt x="210294" y="0"/>
                </a:moveTo>
                <a:lnTo>
                  <a:pt x="210294" y="21600"/>
                </a:lnTo>
                <a:lnTo>
                  <a:pt x="208894" y="20200"/>
                </a:lnTo>
                <a:lnTo>
                  <a:pt x="208894" y="1400"/>
                </a:lnTo>
                <a:close/>
              </a:path>
              <a:path fill="darkenLess" w="210294" h="21600">
                <a:moveTo>
                  <a:pt x="21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94" y="20200"/>
                </a:lnTo>
                <a:close/>
              </a:path>
              <a:path fill="lighten" w="21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7" action="ppaction://hlinksldjump"/>
          </p:cNvPr>
          <p:cNvSpPr/>
          <p:nvPr/>
        </p:nvSpPr>
        <p:spPr>
          <a:xfrm>
            <a:off x="4572000" y="5029200"/>
            <a:ext cx="3252960" cy="304920"/>
          </a:xfrm>
          <a:custGeom>
            <a:avLst/>
            <a:gdLst>
              <a:gd name="textAreaLeft" fmla="*/ 19440 w 3252960"/>
              <a:gd name="textAreaRight" fmla="*/ 3233520 w 32529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30188" h="21600">
                <a:moveTo>
                  <a:pt x="0" y="0"/>
                </a:moveTo>
                <a:lnTo>
                  <a:pt x="230188" y="0"/>
                </a:lnTo>
                <a:lnTo>
                  <a:pt x="230188" y="21600"/>
                </a:lnTo>
                <a:lnTo>
                  <a:pt x="0" y="21600"/>
                </a:lnTo>
                <a:close/>
              </a:path>
              <a:path fill="lightenLess" w="230188" h="21600">
                <a:moveTo>
                  <a:pt x="0" y="0"/>
                </a:moveTo>
                <a:lnTo>
                  <a:pt x="230188" y="0"/>
                </a:lnTo>
                <a:lnTo>
                  <a:pt x="228788" y="1400"/>
                </a:lnTo>
                <a:lnTo>
                  <a:pt x="1400" y="1400"/>
                </a:lnTo>
                <a:close/>
              </a:path>
              <a:path fill="darken" w="230188" h="21600">
                <a:moveTo>
                  <a:pt x="230188" y="0"/>
                </a:moveTo>
                <a:lnTo>
                  <a:pt x="230188" y="21600"/>
                </a:lnTo>
                <a:lnTo>
                  <a:pt x="228788" y="20200"/>
                </a:lnTo>
                <a:lnTo>
                  <a:pt x="228788" y="1400"/>
                </a:lnTo>
                <a:close/>
              </a:path>
              <a:path fill="darkenLess" w="230188" h="21600">
                <a:moveTo>
                  <a:pt x="230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8" y="20200"/>
                </a:lnTo>
                <a:close/>
              </a:path>
              <a:path fill="lighten" w="230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8" action="ppaction://hlinksldjump"/>
          </p:cNvPr>
          <p:cNvSpPr/>
          <p:nvPr/>
        </p:nvSpPr>
        <p:spPr>
          <a:xfrm>
            <a:off x="4648320" y="5486400"/>
            <a:ext cx="3709800" cy="457200"/>
          </a:xfrm>
          <a:custGeom>
            <a:avLst/>
            <a:gdLst>
              <a:gd name="textAreaLeft" fmla="*/ 29520 w 3709800"/>
              <a:gd name="textAreaRight" fmla="*/ 3680280 w 3709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75145" h="21600">
                <a:moveTo>
                  <a:pt x="0" y="0"/>
                </a:moveTo>
                <a:lnTo>
                  <a:pt x="175145" y="0"/>
                </a:lnTo>
                <a:lnTo>
                  <a:pt x="175145" y="21600"/>
                </a:lnTo>
                <a:lnTo>
                  <a:pt x="0" y="21600"/>
                </a:lnTo>
                <a:close/>
              </a:path>
              <a:path fill="lightenLess" w="175145" h="21600">
                <a:moveTo>
                  <a:pt x="0" y="0"/>
                </a:moveTo>
                <a:lnTo>
                  <a:pt x="175145" y="0"/>
                </a:lnTo>
                <a:lnTo>
                  <a:pt x="173745" y="1400"/>
                </a:lnTo>
                <a:lnTo>
                  <a:pt x="1400" y="1400"/>
                </a:lnTo>
                <a:close/>
              </a:path>
              <a:path fill="darken" w="175145" h="21600">
                <a:moveTo>
                  <a:pt x="175145" y="0"/>
                </a:moveTo>
                <a:lnTo>
                  <a:pt x="175145" y="21600"/>
                </a:lnTo>
                <a:lnTo>
                  <a:pt x="173745" y="20200"/>
                </a:lnTo>
                <a:lnTo>
                  <a:pt x="173745" y="1400"/>
                </a:lnTo>
                <a:close/>
              </a:path>
              <a:path fill="darkenLess" w="175145" h="21600">
                <a:moveTo>
                  <a:pt x="175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745" y="20200"/>
                </a:lnTo>
                <a:close/>
              </a:path>
              <a:path fill="lighten" w="175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18520" y="6035760"/>
            <a:ext cx="17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60958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On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loved to talk and 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429000" y="2743200"/>
            <a:ext cx="2514600" cy="533520"/>
          </a:xfrm>
          <a:custGeom>
            <a:avLst/>
            <a:gdLst>
              <a:gd name="textAreaLeft" fmla="*/ 34560 w 2514600"/>
              <a:gd name="textAreaRight" fmla="*/ 2480040 w 2514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1752" h="21600">
                <a:moveTo>
                  <a:pt x="0" y="0"/>
                </a:moveTo>
                <a:lnTo>
                  <a:pt x="101752" y="0"/>
                </a:lnTo>
                <a:lnTo>
                  <a:pt x="101752" y="21600"/>
                </a:lnTo>
                <a:lnTo>
                  <a:pt x="0" y="21600"/>
                </a:lnTo>
                <a:close/>
              </a:path>
              <a:path fill="lightenLess" w="101752" h="21600">
                <a:moveTo>
                  <a:pt x="0" y="0"/>
                </a:moveTo>
                <a:lnTo>
                  <a:pt x="101752" y="0"/>
                </a:lnTo>
                <a:lnTo>
                  <a:pt x="100352" y="1400"/>
                </a:lnTo>
                <a:lnTo>
                  <a:pt x="1400" y="1400"/>
                </a:lnTo>
                <a:close/>
              </a:path>
              <a:path fill="darken" w="101752" h="21600">
                <a:moveTo>
                  <a:pt x="101752" y="0"/>
                </a:moveTo>
                <a:lnTo>
                  <a:pt x="101752" y="21600"/>
                </a:lnTo>
                <a:lnTo>
                  <a:pt x="100352" y="20200"/>
                </a:lnTo>
                <a:lnTo>
                  <a:pt x="100352" y="1400"/>
                </a:lnTo>
                <a:close/>
              </a:path>
              <a:path fill="darkenLess" w="101752" h="21600">
                <a:moveTo>
                  <a:pt x="10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52" y="20200"/>
                </a:lnTo>
                <a:close/>
              </a:path>
              <a:path fill="lighten" w="10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2666880" y="373392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wo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youngest pilot in the Navy to receive his w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3200400" y="4191120"/>
            <a:ext cx="2971800" cy="53316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0330" h="21600">
                <a:moveTo>
                  <a:pt x="0" y="0"/>
                </a:moveTo>
                <a:lnTo>
                  <a:pt x="120330" y="0"/>
                </a:lnTo>
                <a:lnTo>
                  <a:pt x="120330" y="21600"/>
                </a:lnTo>
                <a:lnTo>
                  <a:pt x="0" y="21600"/>
                </a:lnTo>
                <a:close/>
              </a:path>
              <a:path fill="lightenLess" w="120330" h="21600">
                <a:moveTo>
                  <a:pt x="0" y="0"/>
                </a:moveTo>
                <a:lnTo>
                  <a:pt x="120330" y="0"/>
                </a:lnTo>
                <a:lnTo>
                  <a:pt x="118930" y="1400"/>
                </a:lnTo>
                <a:lnTo>
                  <a:pt x="1400" y="1400"/>
                </a:lnTo>
                <a:close/>
              </a:path>
              <a:path fill="darken" w="120330" h="21600">
                <a:moveTo>
                  <a:pt x="120330" y="0"/>
                </a:moveTo>
                <a:lnTo>
                  <a:pt x="120330" y="21600"/>
                </a:lnTo>
                <a:lnTo>
                  <a:pt x="118930" y="20200"/>
                </a:lnTo>
                <a:lnTo>
                  <a:pt x="118930" y="1400"/>
                </a:lnTo>
                <a:close/>
              </a:path>
              <a:path fill="darkenLess" w="120330" h="21600">
                <a:moveTo>
                  <a:pt x="120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930" y="20200"/>
                </a:lnTo>
                <a:close/>
              </a:path>
              <a:path fill="lighten" w="120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2971800" y="31240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hre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first President to nominate the first woman Supreme Court Jus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819520" y="31240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3048120" y="411480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our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the first 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200400" y="3124080"/>
            <a:ext cx="2948040" cy="609840"/>
          </a:xfrm>
          <a:custGeom>
            <a:avLst/>
            <a:gdLst>
              <a:gd name="textAreaLeft" fmla="*/ 39240 w 2948040"/>
              <a:gd name="textAreaRight" fmla="*/ 2908800 w 2948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04368" h="21600">
                <a:moveTo>
                  <a:pt x="0" y="0"/>
                </a:moveTo>
                <a:lnTo>
                  <a:pt x="104368" y="0"/>
                </a:lnTo>
                <a:lnTo>
                  <a:pt x="104368" y="21600"/>
                </a:lnTo>
                <a:lnTo>
                  <a:pt x="0" y="21600"/>
                </a:lnTo>
                <a:close/>
              </a:path>
              <a:path fill="lightenLess" w="104368" h="21600">
                <a:moveTo>
                  <a:pt x="0" y="0"/>
                </a:moveTo>
                <a:lnTo>
                  <a:pt x="104368" y="0"/>
                </a:lnTo>
                <a:lnTo>
                  <a:pt x="102968" y="1400"/>
                </a:lnTo>
                <a:lnTo>
                  <a:pt x="1400" y="1400"/>
                </a:lnTo>
                <a:close/>
              </a:path>
              <a:path fill="darken" w="104368" h="21600">
                <a:moveTo>
                  <a:pt x="104368" y="0"/>
                </a:moveTo>
                <a:lnTo>
                  <a:pt x="104368" y="21600"/>
                </a:lnTo>
                <a:lnTo>
                  <a:pt x="102968" y="20200"/>
                </a:lnTo>
                <a:lnTo>
                  <a:pt x="102968" y="1400"/>
                </a:lnTo>
                <a:close/>
              </a:path>
              <a:path fill="darkenLess" w="104368" h="21600">
                <a:moveTo>
                  <a:pt x="104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68" y="20200"/>
                </a:lnTo>
                <a:close/>
              </a:path>
              <a:path fill="lighten" w="104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666880" y="411480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iv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freed the slaves by signing the Emancipation Procla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braham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2819520" y="3124080"/>
            <a:ext cx="3657600" cy="533520"/>
          </a:xfrm>
          <a:custGeom>
            <a:avLst/>
            <a:gdLst>
              <a:gd name="textAreaLeft" fmla="*/ 34560 w 3657600"/>
              <a:gd name="textAreaRight" fmla="*/ 3623040 w 3657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7996" h="21600">
                <a:moveTo>
                  <a:pt x="0" y="0"/>
                </a:moveTo>
                <a:lnTo>
                  <a:pt x="147996" y="0"/>
                </a:lnTo>
                <a:lnTo>
                  <a:pt x="147996" y="21600"/>
                </a:lnTo>
                <a:lnTo>
                  <a:pt x="0" y="21600"/>
                </a:lnTo>
                <a:close/>
              </a:path>
              <a:path fill="lightenLess" w="147996" h="21600">
                <a:moveTo>
                  <a:pt x="0" y="0"/>
                </a:moveTo>
                <a:lnTo>
                  <a:pt x="147996" y="0"/>
                </a:lnTo>
                <a:lnTo>
                  <a:pt x="146596" y="1400"/>
                </a:lnTo>
                <a:lnTo>
                  <a:pt x="1400" y="1400"/>
                </a:lnTo>
                <a:close/>
              </a:path>
              <a:path fill="darken" w="147996" h="21600">
                <a:moveTo>
                  <a:pt x="147996" y="0"/>
                </a:moveTo>
                <a:lnTo>
                  <a:pt x="147996" y="21600"/>
                </a:lnTo>
                <a:lnTo>
                  <a:pt x="146596" y="20200"/>
                </a:lnTo>
                <a:lnTo>
                  <a:pt x="146596" y="1400"/>
                </a:lnTo>
                <a:close/>
              </a:path>
              <a:path fill="darkenLess" w="147996" h="21600">
                <a:moveTo>
                  <a:pt x="147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596" y="20200"/>
                </a:lnTo>
                <a:close/>
              </a:path>
              <a:path fill="lighten" w="147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3276720" y="4191120"/>
            <a:ext cx="2895480" cy="533160"/>
          </a:xfrm>
          <a:custGeom>
            <a:avLst/>
            <a:gdLst>
              <a:gd name="textAreaLeft" fmla="*/ 34560 w 2895480"/>
              <a:gd name="textAreaRight" fmla="*/ 2860920 w 2895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7240" h="21600">
                <a:moveTo>
                  <a:pt x="0" y="0"/>
                </a:moveTo>
                <a:lnTo>
                  <a:pt x="117240" y="0"/>
                </a:lnTo>
                <a:lnTo>
                  <a:pt x="117240" y="21600"/>
                </a:lnTo>
                <a:lnTo>
                  <a:pt x="0" y="21600"/>
                </a:lnTo>
                <a:close/>
              </a:path>
              <a:path fill="lightenLess" w="117240" h="21600">
                <a:moveTo>
                  <a:pt x="0" y="0"/>
                </a:moveTo>
                <a:lnTo>
                  <a:pt x="117240" y="0"/>
                </a:lnTo>
                <a:lnTo>
                  <a:pt x="115841" y="1400"/>
                </a:lnTo>
                <a:lnTo>
                  <a:pt x="1400" y="1400"/>
                </a:lnTo>
                <a:close/>
              </a:path>
              <a:path fill="darken" w="117240" h="21600">
                <a:moveTo>
                  <a:pt x="117240" y="0"/>
                </a:moveTo>
                <a:lnTo>
                  <a:pt x="117240" y="21600"/>
                </a:lnTo>
                <a:lnTo>
                  <a:pt x="115841" y="20200"/>
                </a:lnTo>
                <a:lnTo>
                  <a:pt x="115841" y="1400"/>
                </a:lnTo>
                <a:close/>
              </a:path>
              <a:path fill="darkenLess" w="117240" h="21600">
                <a:moveTo>
                  <a:pt x="117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841" y="20200"/>
                </a:lnTo>
                <a:close/>
              </a:path>
              <a:path fill="lighten" w="117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ix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president during the attacks on the World Trade Center on 9/1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Franklin D.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2971800" y="3124080"/>
            <a:ext cx="3505320" cy="60984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4095" h="21600">
                <a:moveTo>
                  <a:pt x="0" y="0"/>
                </a:moveTo>
                <a:lnTo>
                  <a:pt x="124095" y="0"/>
                </a:lnTo>
                <a:lnTo>
                  <a:pt x="124095" y="21600"/>
                </a:lnTo>
                <a:lnTo>
                  <a:pt x="0" y="21600"/>
                </a:lnTo>
                <a:close/>
              </a:path>
              <a:path fill="lightenLess" w="124095" h="21600">
                <a:moveTo>
                  <a:pt x="0" y="0"/>
                </a:moveTo>
                <a:lnTo>
                  <a:pt x="124095" y="0"/>
                </a:lnTo>
                <a:lnTo>
                  <a:pt x="122695" y="1400"/>
                </a:lnTo>
                <a:lnTo>
                  <a:pt x="1400" y="1400"/>
                </a:lnTo>
                <a:close/>
              </a:path>
              <a:path fill="darken" w="124095" h="21600">
                <a:moveTo>
                  <a:pt x="124095" y="0"/>
                </a:moveTo>
                <a:lnTo>
                  <a:pt x="124095" y="21600"/>
                </a:lnTo>
                <a:lnTo>
                  <a:pt x="122695" y="20200"/>
                </a:lnTo>
                <a:lnTo>
                  <a:pt x="122695" y="1400"/>
                </a:lnTo>
                <a:close/>
              </a:path>
              <a:path fill="darkenLess" w="124095" h="21600">
                <a:moveTo>
                  <a:pt x="124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95" y="20200"/>
                </a:lnTo>
                <a:close/>
              </a:path>
              <a:path fill="lighten" w="124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2590920" y="4114800"/>
            <a:ext cx="4190760" cy="685800"/>
          </a:xfrm>
          <a:custGeom>
            <a:avLst/>
            <a:gdLst>
              <a:gd name="textAreaLeft" fmla="*/ 44280 w 4190760"/>
              <a:gd name="textAreaRight" fmla="*/ 4146480 w 4190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1935" h="21600">
                <a:moveTo>
                  <a:pt x="0" y="0"/>
                </a:moveTo>
                <a:lnTo>
                  <a:pt x="131935" y="0"/>
                </a:lnTo>
                <a:lnTo>
                  <a:pt x="131935" y="21600"/>
                </a:lnTo>
                <a:lnTo>
                  <a:pt x="0" y="21600"/>
                </a:lnTo>
                <a:close/>
              </a:path>
              <a:path fill="lightenLess" w="131935" h="21600">
                <a:moveTo>
                  <a:pt x="0" y="0"/>
                </a:moveTo>
                <a:lnTo>
                  <a:pt x="131935" y="0"/>
                </a:lnTo>
                <a:lnTo>
                  <a:pt x="130535" y="1400"/>
                </a:lnTo>
                <a:lnTo>
                  <a:pt x="1400" y="1400"/>
                </a:lnTo>
                <a:close/>
              </a:path>
              <a:path fill="darken" w="131935" h="21600">
                <a:moveTo>
                  <a:pt x="131935" y="0"/>
                </a:moveTo>
                <a:lnTo>
                  <a:pt x="131935" y="21600"/>
                </a:lnTo>
                <a:lnTo>
                  <a:pt x="130535" y="20200"/>
                </a:lnTo>
                <a:lnTo>
                  <a:pt x="130535" y="1400"/>
                </a:lnTo>
                <a:close/>
              </a:path>
              <a:path fill="darkenLess" w="131935" h="21600">
                <a:moveTo>
                  <a:pt x="131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535" y="20200"/>
                </a:lnTo>
                <a:close/>
              </a:path>
              <a:path fill="lighten" w="131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ev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former football 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505320" y="2666880"/>
            <a:ext cx="2438280" cy="533520"/>
          </a:xfrm>
          <a:custGeom>
            <a:avLst/>
            <a:gdLst>
              <a:gd name="textAreaLeft" fmla="*/ 34560 w 2438280"/>
              <a:gd name="textAreaRight" fmla="*/ 2403720 w 2438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8664" h="21600">
                <a:moveTo>
                  <a:pt x="0" y="0"/>
                </a:moveTo>
                <a:lnTo>
                  <a:pt x="98664" y="0"/>
                </a:lnTo>
                <a:lnTo>
                  <a:pt x="98664" y="21600"/>
                </a:lnTo>
                <a:lnTo>
                  <a:pt x="0" y="21600"/>
                </a:lnTo>
                <a:close/>
              </a:path>
              <a:path fill="lightenLess" w="98664" h="21600">
                <a:moveTo>
                  <a:pt x="0" y="0"/>
                </a:moveTo>
                <a:lnTo>
                  <a:pt x="98664" y="0"/>
                </a:lnTo>
                <a:lnTo>
                  <a:pt x="97264" y="1400"/>
                </a:lnTo>
                <a:lnTo>
                  <a:pt x="1400" y="1400"/>
                </a:lnTo>
                <a:close/>
              </a:path>
              <a:path fill="darken" w="98664" h="21600">
                <a:moveTo>
                  <a:pt x="98664" y="0"/>
                </a:moveTo>
                <a:lnTo>
                  <a:pt x="98664" y="21600"/>
                </a:lnTo>
                <a:lnTo>
                  <a:pt x="97264" y="20200"/>
                </a:lnTo>
                <a:lnTo>
                  <a:pt x="97264" y="1400"/>
                </a:lnTo>
                <a:close/>
              </a:path>
              <a:path fill="darkenLess" w="98664" h="21600">
                <a:moveTo>
                  <a:pt x="98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264" y="20200"/>
                </a:lnTo>
                <a:close/>
              </a:path>
              <a:path fill="lighten" w="98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3352680" y="3733920"/>
            <a:ext cx="2743200" cy="53316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11075" h="21600">
                <a:moveTo>
                  <a:pt x="0" y="0"/>
                </a:moveTo>
                <a:lnTo>
                  <a:pt x="111075" y="0"/>
                </a:lnTo>
                <a:lnTo>
                  <a:pt x="111075" y="21600"/>
                </a:lnTo>
                <a:lnTo>
                  <a:pt x="0" y="21600"/>
                </a:lnTo>
                <a:close/>
              </a:path>
              <a:path fill="lightenLess" w="111075" h="21600">
                <a:moveTo>
                  <a:pt x="0" y="0"/>
                </a:moveTo>
                <a:lnTo>
                  <a:pt x="111075" y="0"/>
                </a:lnTo>
                <a:lnTo>
                  <a:pt x="109675" y="1400"/>
                </a:lnTo>
                <a:lnTo>
                  <a:pt x="1400" y="1400"/>
                </a:lnTo>
                <a:close/>
              </a:path>
              <a:path fill="darken" w="111075" h="21600">
                <a:moveTo>
                  <a:pt x="111075" y="0"/>
                </a:moveTo>
                <a:lnTo>
                  <a:pt x="111075" y="21600"/>
                </a:lnTo>
                <a:lnTo>
                  <a:pt x="109675" y="20200"/>
                </a:lnTo>
                <a:lnTo>
                  <a:pt x="109675" y="1400"/>
                </a:lnTo>
                <a:close/>
              </a:path>
              <a:path fill="darkenLess" w="111075" h="21600">
                <a:moveTo>
                  <a:pt x="111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75" y="20200"/>
                </a:lnTo>
                <a:close/>
              </a:path>
              <a:path fill="lighten" w="111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un Game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810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Pres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2438280" y="1905120"/>
            <a:ext cx="4724640" cy="1042920"/>
          </a:xfrm>
          <a:custGeom>
            <a:avLst/>
            <a:gdLst>
              <a:gd name="textAreaLeft" fmla="*/ 67320 w 4724640"/>
              <a:gd name="textAreaRight" fmla="*/ 4657320 w 4724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97826" h="21600">
                <a:moveTo>
                  <a:pt x="0" y="0"/>
                </a:moveTo>
                <a:lnTo>
                  <a:pt x="97826" y="0"/>
                </a:lnTo>
                <a:lnTo>
                  <a:pt x="97826" y="21600"/>
                </a:lnTo>
                <a:lnTo>
                  <a:pt x="0" y="21600"/>
                </a:lnTo>
                <a:close/>
              </a:path>
              <a:path fill="lightenLess" w="97826" h="21600">
                <a:moveTo>
                  <a:pt x="0" y="0"/>
                </a:moveTo>
                <a:lnTo>
                  <a:pt x="97826" y="0"/>
                </a:lnTo>
                <a:lnTo>
                  <a:pt x="96426" y="1400"/>
                </a:lnTo>
                <a:lnTo>
                  <a:pt x="1400" y="1400"/>
                </a:lnTo>
                <a:close/>
              </a:path>
              <a:path fill="darken" w="97826" h="21600">
                <a:moveTo>
                  <a:pt x="97826" y="0"/>
                </a:moveTo>
                <a:lnTo>
                  <a:pt x="97826" y="21600"/>
                </a:lnTo>
                <a:lnTo>
                  <a:pt x="96426" y="20200"/>
                </a:lnTo>
                <a:lnTo>
                  <a:pt x="96426" y="1400"/>
                </a:lnTo>
                <a:close/>
              </a:path>
              <a:path fill="darkenLess" w="97826" h="21600">
                <a:moveTo>
                  <a:pt x="97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426" y="20200"/>
                </a:lnTo>
                <a:close/>
              </a:path>
              <a:path fill="lighten" w="97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200400" y="3352680"/>
            <a:ext cx="3276720" cy="533520"/>
          </a:xfrm>
          <a:custGeom>
            <a:avLst/>
            <a:gdLst>
              <a:gd name="textAreaLeft" fmla="*/ 34560 w 3276720"/>
              <a:gd name="textAreaRight" fmla="*/ 3242160 w 3276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2586" h="21600">
                <a:moveTo>
                  <a:pt x="0" y="0"/>
                </a:moveTo>
                <a:lnTo>
                  <a:pt x="132586" y="0"/>
                </a:lnTo>
                <a:lnTo>
                  <a:pt x="132586" y="21600"/>
                </a:lnTo>
                <a:lnTo>
                  <a:pt x="0" y="21600"/>
                </a:lnTo>
                <a:close/>
              </a:path>
              <a:path fill="lightenLess" w="132586" h="21600">
                <a:moveTo>
                  <a:pt x="0" y="0"/>
                </a:moveTo>
                <a:lnTo>
                  <a:pt x="132586" y="0"/>
                </a:lnTo>
                <a:lnTo>
                  <a:pt x="131186" y="1400"/>
                </a:lnTo>
                <a:lnTo>
                  <a:pt x="1400" y="1400"/>
                </a:lnTo>
                <a:close/>
              </a:path>
              <a:path fill="darken" w="132586" h="21600">
                <a:moveTo>
                  <a:pt x="132586" y="0"/>
                </a:moveTo>
                <a:lnTo>
                  <a:pt x="132586" y="21600"/>
                </a:lnTo>
                <a:lnTo>
                  <a:pt x="131186" y="20200"/>
                </a:lnTo>
                <a:lnTo>
                  <a:pt x="131186" y="1400"/>
                </a:lnTo>
                <a:close/>
              </a:path>
              <a:path fill="darkenLess" w="132586" h="21600">
                <a:moveTo>
                  <a:pt x="13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186" y="20200"/>
                </a:lnTo>
                <a:close/>
              </a:path>
              <a:path fill="lighten" w="13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3880" y="5486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410080"/>
            <a:ext cx="1676160" cy="814680"/>
          </a:xfrm>
          <a:custGeom>
            <a:avLst/>
            <a:gdLst>
              <a:gd name="textAreaLeft" fmla="*/ 52560 w 1676160"/>
              <a:gd name="textAreaRight" fmla="*/ 1623600 w 167616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44431" h="21600">
                <a:moveTo>
                  <a:pt x="0" y="0"/>
                </a:moveTo>
                <a:lnTo>
                  <a:pt x="44431" y="0"/>
                </a:lnTo>
                <a:lnTo>
                  <a:pt x="44431" y="21600"/>
                </a:lnTo>
                <a:lnTo>
                  <a:pt x="0" y="21600"/>
                </a:lnTo>
                <a:close/>
              </a:path>
              <a:path fill="lightenLess" w="44431" h="21600">
                <a:moveTo>
                  <a:pt x="0" y="0"/>
                </a:moveTo>
                <a:lnTo>
                  <a:pt x="44431" y="0"/>
                </a:lnTo>
                <a:lnTo>
                  <a:pt x="43031" y="1400"/>
                </a:lnTo>
                <a:lnTo>
                  <a:pt x="1400" y="1400"/>
                </a:lnTo>
                <a:close/>
              </a:path>
              <a:path fill="darken" w="44431" h="21600">
                <a:moveTo>
                  <a:pt x="44431" y="0"/>
                </a:moveTo>
                <a:lnTo>
                  <a:pt x="44431" y="21600"/>
                </a:lnTo>
                <a:lnTo>
                  <a:pt x="43031" y="20200"/>
                </a:lnTo>
                <a:lnTo>
                  <a:pt x="43031" y="1400"/>
                </a:lnTo>
                <a:close/>
              </a:path>
              <a:path fill="darkenLess" w="44431" h="21600">
                <a:moveTo>
                  <a:pt x="44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31" y="20200"/>
                </a:lnTo>
                <a:close/>
              </a:path>
              <a:path fill="lighten" w="44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Eigh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ssassi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John F. Ke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3048120" y="2666880"/>
            <a:ext cx="3352680" cy="60984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7292" y="1400"/>
                </a:lnTo>
                <a:lnTo>
                  <a:pt x="1400" y="1400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7292" y="20200"/>
                </a:lnTo>
                <a:lnTo>
                  <a:pt x="117292" y="1400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92" y="20200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3048120" y="3733920"/>
            <a:ext cx="3276360" cy="609480"/>
          </a:xfrm>
          <a:custGeom>
            <a:avLst/>
            <a:gdLst>
              <a:gd name="textAreaLeft" fmla="*/ 39240 w 3276360"/>
              <a:gd name="textAreaRight" fmla="*/ 3237120 w 3276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6059" h="21600">
                <a:moveTo>
                  <a:pt x="0" y="0"/>
                </a:moveTo>
                <a:lnTo>
                  <a:pt x="116059" y="0"/>
                </a:lnTo>
                <a:lnTo>
                  <a:pt x="116059" y="21600"/>
                </a:lnTo>
                <a:lnTo>
                  <a:pt x="0" y="21600"/>
                </a:lnTo>
                <a:close/>
              </a:path>
              <a:path fill="lightenLess" w="116059" h="21600">
                <a:moveTo>
                  <a:pt x="0" y="0"/>
                </a:moveTo>
                <a:lnTo>
                  <a:pt x="116059" y="0"/>
                </a:lnTo>
                <a:lnTo>
                  <a:pt x="114659" y="1400"/>
                </a:lnTo>
                <a:lnTo>
                  <a:pt x="1400" y="1400"/>
                </a:lnTo>
                <a:close/>
              </a:path>
              <a:path fill="darken" w="116059" h="21600">
                <a:moveTo>
                  <a:pt x="116059" y="0"/>
                </a:moveTo>
                <a:lnTo>
                  <a:pt x="116059" y="21600"/>
                </a:lnTo>
                <a:lnTo>
                  <a:pt x="114659" y="20200"/>
                </a:lnTo>
                <a:lnTo>
                  <a:pt x="114659" y="1400"/>
                </a:lnTo>
                <a:close/>
              </a:path>
              <a:path fill="darkenLess" w="116059" h="21600">
                <a:moveTo>
                  <a:pt x="116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659" y="20200"/>
                </a:lnTo>
                <a:close/>
              </a:path>
              <a:path fill="lighten" w="116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Nin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uffered from polio and used a wheelch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Franklin D. Rooseve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2666880" y="3124080"/>
            <a:ext cx="4038840" cy="60984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42981" h="21600">
                <a:moveTo>
                  <a:pt x="0" y="0"/>
                </a:moveTo>
                <a:lnTo>
                  <a:pt x="142981" y="0"/>
                </a:lnTo>
                <a:lnTo>
                  <a:pt x="142981" y="21600"/>
                </a:lnTo>
                <a:lnTo>
                  <a:pt x="0" y="21600"/>
                </a:lnTo>
                <a:close/>
              </a:path>
              <a:path fill="lightenLess" w="142981" h="21600">
                <a:moveTo>
                  <a:pt x="0" y="0"/>
                </a:moveTo>
                <a:lnTo>
                  <a:pt x="142981" y="0"/>
                </a:lnTo>
                <a:lnTo>
                  <a:pt x="141581" y="1400"/>
                </a:lnTo>
                <a:lnTo>
                  <a:pt x="1400" y="1400"/>
                </a:lnTo>
                <a:close/>
              </a:path>
              <a:path fill="darken" w="142981" h="21600">
                <a:moveTo>
                  <a:pt x="142981" y="0"/>
                </a:moveTo>
                <a:lnTo>
                  <a:pt x="142981" y="21600"/>
                </a:lnTo>
                <a:lnTo>
                  <a:pt x="141581" y="20200"/>
                </a:lnTo>
                <a:lnTo>
                  <a:pt x="141581" y="1400"/>
                </a:lnTo>
                <a:close/>
              </a:path>
              <a:path fill="darkenLess" w="142981" h="21600">
                <a:moveTo>
                  <a:pt x="142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81" y="20200"/>
                </a:lnTo>
                <a:close/>
              </a:path>
              <a:path fill="lighten" w="142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2590920" y="4114800"/>
            <a:ext cx="4267080" cy="609480"/>
          </a:xfrm>
          <a:custGeom>
            <a:avLst/>
            <a:gdLst>
              <a:gd name="textAreaLeft" fmla="*/ 39240 w 4267080"/>
              <a:gd name="textAreaRight" fmla="*/ 4227840 w 4267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mmitted crimes in office and lied about them to the people of 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3200400" y="3124080"/>
            <a:ext cx="2971800" cy="60984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05209" h="21600">
                <a:moveTo>
                  <a:pt x="0" y="0"/>
                </a:moveTo>
                <a:lnTo>
                  <a:pt x="105209" y="0"/>
                </a:lnTo>
                <a:lnTo>
                  <a:pt x="105209" y="21600"/>
                </a:lnTo>
                <a:lnTo>
                  <a:pt x="0" y="21600"/>
                </a:lnTo>
                <a:close/>
              </a:path>
              <a:path fill="lightenLess" w="105209" h="21600">
                <a:moveTo>
                  <a:pt x="0" y="0"/>
                </a:moveTo>
                <a:lnTo>
                  <a:pt x="105209" y="0"/>
                </a:lnTo>
                <a:lnTo>
                  <a:pt x="103809" y="1400"/>
                </a:lnTo>
                <a:lnTo>
                  <a:pt x="1400" y="1400"/>
                </a:lnTo>
                <a:close/>
              </a:path>
              <a:path fill="darken" w="105209" h="21600">
                <a:moveTo>
                  <a:pt x="105209" y="0"/>
                </a:moveTo>
                <a:lnTo>
                  <a:pt x="105209" y="21600"/>
                </a:lnTo>
                <a:lnTo>
                  <a:pt x="103809" y="20200"/>
                </a:lnTo>
                <a:lnTo>
                  <a:pt x="103809" y="1400"/>
                </a:lnTo>
                <a:close/>
              </a:path>
              <a:path fill="darkenLess" w="105209" h="21600">
                <a:moveTo>
                  <a:pt x="10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09" y="20200"/>
                </a:lnTo>
                <a:close/>
              </a:path>
              <a:path fill="lighten" w="10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3124080" y="4114800"/>
            <a:ext cx="3124440" cy="609480"/>
          </a:xfrm>
          <a:custGeom>
            <a:avLst/>
            <a:gdLst>
              <a:gd name="textAreaLeft" fmla="*/ 39240 w 3124440"/>
              <a:gd name="textAreaRight" fmla="*/ 3085200 w 3124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78" h="21600">
                <a:moveTo>
                  <a:pt x="0" y="0"/>
                </a:moveTo>
                <a:lnTo>
                  <a:pt x="110678" y="0"/>
                </a:lnTo>
                <a:lnTo>
                  <a:pt x="110678" y="21600"/>
                </a:lnTo>
                <a:lnTo>
                  <a:pt x="0" y="21600"/>
                </a:lnTo>
                <a:close/>
              </a:path>
              <a:path fill="lightenLess" w="110678" h="21600">
                <a:moveTo>
                  <a:pt x="0" y="0"/>
                </a:moveTo>
                <a:lnTo>
                  <a:pt x="110678" y="0"/>
                </a:lnTo>
                <a:lnTo>
                  <a:pt x="109278" y="1400"/>
                </a:lnTo>
                <a:lnTo>
                  <a:pt x="1400" y="1400"/>
                </a:lnTo>
                <a:close/>
              </a:path>
              <a:path fill="darken" w="110678" h="21600">
                <a:moveTo>
                  <a:pt x="110678" y="0"/>
                </a:moveTo>
                <a:lnTo>
                  <a:pt x="110678" y="21600"/>
                </a:lnTo>
                <a:lnTo>
                  <a:pt x="109278" y="20200"/>
                </a:lnTo>
                <a:lnTo>
                  <a:pt x="109278" y="1400"/>
                </a:lnTo>
                <a:close/>
              </a:path>
              <a:path fill="darkenLess" w="110678" h="21600">
                <a:moveTo>
                  <a:pt x="11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78" y="20200"/>
                </a:lnTo>
                <a:close/>
              </a:path>
              <a:path fill="lighten" w="11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Elev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rote the Declaration of Indepen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Abraham Linco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895480" y="2666880"/>
            <a:ext cx="3657600" cy="533520"/>
          </a:xfrm>
          <a:custGeom>
            <a:avLst/>
            <a:gdLst>
              <a:gd name="textAreaLeft" fmla="*/ 34560 w 3657600"/>
              <a:gd name="textAreaRight" fmla="*/ 3623040 w 3657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7996" h="21600">
                <a:moveTo>
                  <a:pt x="0" y="0"/>
                </a:moveTo>
                <a:lnTo>
                  <a:pt x="147996" y="0"/>
                </a:lnTo>
                <a:lnTo>
                  <a:pt x="147996" y="21600"/>
                </a:lnTo>
                <a:lnTo>
                  <a:pt x="0" y="21600"/>
                </a:lnTo>
                <a:close/>
              </a:path>
              <a:path fill="lightenLess" w="147996" h="21600">
                <a:moveTo>
                  <a:pt x="0" y="0"/>
                </a:moveTo>
                <a:lnTo>
                  <a:pt x="147996" y="0"/>
                </a:lnTo>
                <a:lnTo>
                  <a:pt x="146596" y="1400"/>
                </a:lnTo>
                <a:lnTo>
                  <a:pt x="1400" y="1400"/>
                </a:lnTo>
                <a:close/>
              </a:path>
              <a:path fill="darken" w="147996" h="21600">
                <a:moveTo>
                  <a:pt x="147996" y="0"/>
                </a:moveTo>
                <a:lnTo>
                  <a:pt x="147996" y="21600"/>
                </a:lnTo>
                <a:lnTo>
                  <a:pt x="146596" y="20200"/>
                </a:lnTo>
                <a:lnTo>
                  <a:pt x="146596" y="1400"/>
                </a:lnTo>
                <a:close/>
              </a:path>
              <a:path fill="darkenLess" w="147996" h="21600">
                <a:moveTo>
                  <a:pt x="147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596" y="20200"/>
                </a:lnTo>
                <a:close/>
              </a:path>
              <a:path fill="lighten" w="147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2971800" y="37339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welv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got stuck in his batht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2971800" y="2743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2666880" y="3733920"/>
            <a:ext cx="4191120" cy="533160"/>
          </a:xfrm>
          <a:custGeom>
            <a:avLst/>
            <a:gdLst>
              <a:gd name="textAreaLeft" fmla="*/ 34560 w 4191120"/>
              <a:gd name="textAreaRight" fmla="*/ 4156560 w 4191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9696" h="21600">
                <a:moveTo>
                  <a:pt x="0" y="0"/>
                </a:moveTo>
                <a:lnTo>
                  <a:pt x="169696" y="0"/>
                </a:lnTo>
                <a:lnTo>
                  <a:pt x="169696" y="21600"/>
                </a:lnTo>
                <a:lnTo>
                  <a:pt x="0" y="21600"/>
                </a:lnTo>
                <a:close/>
              </a:path>
              <a:path fill="lightenLess" w="169696" h="21600">
                <a:moveTo>
                  <a:pt x="0" y="0"/>
                </a:moveTo>
                <a:lnTo>
                  <a:pt x="169696" y="0"/>
                </a:lnTo>
                <a:lnTo>
                  <a:pt x="168296" y="1400"/>
                </a:lnTo>
                <a:lnTo>
                  <a:pt x="1400" y="1400"/>
                </a:lnTo>
                <a:close/>
              </a:path>
              <a:path fill="darken" w="169696" h="21600">
                <a:moveTo>
                  <a:pt x="169696" y="0"/>
                </a:moveTo>
                <a:lnTo>
                  <a:pt x="169696" y="21600"/>
                </a:lnTo>
                <a:lnTo>
                  <a:pt x="168296" y="20200"/>
                </a:lnTo>
                <a:lnTo>
                  <a:pt x="168296" y="1400"/>
                </a:lnTo>
                <a:close/>
              </a:path>
              <a:path fill="darkenLess" w="169696" h="21600">
                <a:moveTo>
                  <a:pt x="169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296" y="20200"/>
                </a:lnTo>
                <a:close/>
              </a:path>
              <a:path fill="lighten" w="169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Thir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very active person - war hero, Nobel peace prize winner, conservationist, and outdoors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2666880" y="3657600"/>
            <a:ext cx="4114800" cy="457200"/>
          </a:xfrm>
          <a:custGeom>
            <a:avLst/>
            <a:gdLst>
              <a:gd name="textAreaLeft" fmla="*/ 29520 w 4114800"/>
              <a:gd name="textAreaRight" fmla="*/ 4085280 w 4114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4264" h="21600">
                <a:moveTo>
                  <a:pt x="0" y="0"/>
                </a:moveTo>
                <a:lnTo>
                  <a:pt x="194264" y="0"/>
                </a:lnTo>
                <a:lnTo>
                  <a:pt x="194264" y="21600"/>
                </a:lnTo>
                <a:lnTo>
                  <a:pt x="0" y="21600"/>
                </a:lnTo>
                <a:close/>
              </a:path>
              <a:path fill="lightenLess" w="194264" h="21600">
                <a:moveTo>
                  <a:pt x="0" y="0"/>
                </a:moveTo>
                <a:lnTo>
                  <a:pt x="194264" y="0"/>
                </a:lnTo>
                <a:lnTo>
                  <a:pt x="192864" y="1400"/>
                </a:lnTo>
                <a:lnTo>
                  <a:pt x="1400" y="1400"/>
                </a:lnTo>
                <a:close/>
              </a:path>
              <a:path fill="darken" w="194264" h="21600">
                <a:moveTo>
                  <a:pt x="194264" y="0"/>
                </a:moveTo>
                <a:lnTo>
                  <a:pt x="194264" y="21600"/>
                </a:lnTo>
                <a:lnTo>
                  <a:pt x="192864" y="20200"/>
                </a:lnTo>
                <a:lnTo>
                  <a:pt x="192864" y="1400"/>
                </a:lnTo>
                <a:close/>
              </a:path>
              <a:path fill="darkenLess" w="194264" h="21600">
                <a:moveTo>
                  <a:pt x="194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864" y="20200"/>
                </a:lnTo>
                <a:close/>
              </a:path>
              <a:path fill="lighten" w="194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2971800" y="4572000"/>
            <a:ext cx="3505320" cy="609480"/>
          </a:xfrm>
          <a:custGeom>
            <a:avLst/>
            <a:gdLst>
              <a:gd name="textAreaLeft" fmla="*/ 39240 w 3505320"/>
              <a:gd name="textAreaRight" fmla="*/ 3466080 w 3505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our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orked toward equal rights for minorities and w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2666880" y="3124080"/>
            <a:ext cx="4114800" cy="533520"/>
          </a:xfrm>
          <a:custGeom>
            <a:avLst/>
            <a:gdLst>
              <a:gd name="textAreaLeft" fmla="*/ 34560 w 4114800"/>
              <a:gd name="textAreaRight" fmla="*/ 4080240 w 4114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6493" h="21600">
                <a:moveTo>
                  <a:pt x="0" y="0"/>
                </a:moveTo>
                <a:lnTo>
                  <a:pt x="166493" y="0"/>
                </a:lnTo>
                <a:lnTo>
                  <a:pt x="166493" y="21600"/>
                </a:lnTo>
                <a:lnTo>
                  <a:pt x="0" y="21600"/>
                </a:lnTo>
                <a:close/>
              </a:path>
              <a:path fill="lightenLess" w="166493" h="21600">
                <a:moveTo>
                  <a:pt x="0" y="0"/>
                </a:moveTo>
                <a:lnTo>
                  <a:pt x="166493" y="0"/>
                </a:lnTo>
                <a:lnTo>
                  <a:pt x="165093" y="1400"/>
                </a:lnTo>
                <a:lnTo>
                  <a:pt x="1400" y="1400"/>
                </a:lnTo>
                <a:close/>
              </a:path>
              <a:path fill="darken" w="166493" h="21600">
                <a:moveTo>
                  <a:pt x="166493" y="0"/>
                </a:moveTo>
                <a:lnTo>
                  <a:pt x="166493" y="21600"/>
                </a:lnTo>
                <a:lnTo>
                  <a:pt x="165093" y="20200"/>
                </a:lnTo>
                <a:lnTo>
                  <a:pt x="165093" y="1400"/>
                </a:lnTo>
                <a:close/>
              </a:path>
              <a:path fill="darkenLess" w="166493" h="21600">
                <a:moveTo>
                  <a:pt x="16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093" y="20200"/>
                </a:lnTo>
                <a:close/>
              </a:path>
              <a:path fill="lighten" w="16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3200400" y="411480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5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5" y="20200"/>
                </a:lnTo>
                <a:lnTo>
                  <a:pt x="106575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5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Fif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Nicknamed “Silent Ca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3048120" y="259092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3048120" y="3733920"/>
            <a:ext cx="3276360" cy="533160"/>
          </a:xfrm>
          <a:custGeom>
            <a:avLst/>
            <a:gdLst>
              <a:gd name="textAreaLeft" fmla="*/ 34560 w 3276360"/>
              <a:gd name="textAreaRight" fmla="*/ 3241800 w 3276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2661" h="21600">
                <a:moveTo>
                  <a:pt x="0" y="0"/>
                </a:moveTo>
                <a:lnTo>
                  <a:pt x="132661" y="0"/>
                </a:lnTo>
                <a:lnTo>
                  <a:pt x="132661" y="21600"/>
                </a:lnTo>
                <a:lnTo>
                  <a:pt x="0" y="21600"/>
                </a:lnTo>
                <a:close/>
              </a:path>
              <a:path fill="lightenLess" w="132661" h="21600">
                <a:moveTo>
                  <a:pt x="0" y="0"/>
                </a:moveTo>
                <a:lnTo>
                  <a:pt x="132661" y="0"/>
                </a:lnTo>
                <a:lnTo>
                  <a:pt x="131261" y="1400"/>
                </a:lnTo>
                <a:lnTo>
                  <a:pt x="1400" y="1400"/>
                </a:lnTo>
                <a:close/>
              </a:path>
              <a:path fill="darken" w="132661" h="21600">
                <a:moveTo>
                  <a:pt x="132661" y="0"/>
                </a:moveTo>
                <a:lnTo>
                  <a:pt x="132661" y="21600"/>
                </a:lnTo>
                <a:lnTo>
                  <a:pt x="131261" y="20200"/>
                </a:lnTo>
                <a:lnTo>
                  <a:pt x="131261" y="1400"/>
                </a:lnTo>
                <a:close/>
              </a:path>
              <a:path fill="darkenLess" w="132661" h="21600">
                <a:moveTo>
                  <a:pt x="13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261" y="20200"/>
                </a:lnTo>
                <a:close/>
              </a:path>
              <a:path fill="lighten" w="13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ix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a military general who led his army to a Civil War vic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2895480" y="3124080"/>
            <a:ext cx="3581640" cy="609840"/>
          </a:xfrm>
          <a:custGeom>
            <a:avLst/>
            <a:gdLst>
              <a:gd name="textAreaLeft" fmla="*/ 39240 w 3581640"/>
              <a:gd name="textAreaRight" fmla="*/ 3542400 w 3581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26796" h="21600">
                <a:moveTo>
                  <a:pt x="0" y="0"/>
                </a:moveTo>
                <a:lnTo>
                  <a:pt x="126796" y="0"/>
                </a:lnTo>
                <a:lnTo>
                  <a:pt x="126796" y="21600"/>
                </a:lnTo>
                <a:lnTo>
                  <a:pt x="0" y="21600"/>
                </a:lnTo>
                <a:close/>
              </a:path>
              <a:path fill="lightenLess" w="126796" h="21600">
                <a:moveTo>
                  <a:pt x="0" y="0"/>
                </a:moveTo>
                <a:lnTo>
                  <a:pt x="126796" y="0"/>
                </a:lnTo>
                <a:lnTo>
                  <a:pt x="125397" y="1400"/>
                </a:lnTo>
                <a:lnTo>
                  <a:pt x="1400" y="1400"/>
                </a:lnTo>
                <a:close/>
              </a:path>
              <a:path fill="darken" w="126796" h="21600">
                <a:moveTo>
                  <a:pt x="126796" y="0"/>
                </a:moveTo>
                <a:lnTo>
                  <a:pt x="126796" y="21600"/>
                </a:lnTo>
                <a:lnTo>
                  <a:pt x="125397" y="20200"/>
                </a:lnTo>
                <a:lnTo>
                  <a:pt x="125397" y="1400"/>
                </a:lnTo>
                <a:close/>
              </a:path>
              <a:path fill="darkenLess" w="126796" h="21600">
                <a:moveTo>
                  <a:pt x="12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397" y="20200"/>
                </a:lnTo>
                <a:close/>
              </a:path>
              <a:path fill="lighten" w="12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3352680" y="4114800"/>
            <a:ext cx="2743200" cy="685800"/>
          </a:xfrm>
          <a:custGeom>
            <a:avLst/>
            <a:gdLst>
              <a:gd name="textAreaLeft" fmla="*/ 44280 w 2743200"/>
              <a:gd name="textAreaRight" fmla="*/ 2698920 w 2743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6366" h="21600">
                <a:moveTo>
                  <a:pt x="0" y="0"/>
                </a:moveTo>
                <a:lnTo>
                  <a:pt x="86366" y="0"/>
                </a:lnTo>
                <a:lnTo>
                  <a:pt x="86366" y="21600"/>
                </a:lnTo>
                <a:lnTo>
                  <a:pt x="0" y="21600"/>
                </a:lnTo>
                <a:close/>
              </a:path>
              <a:path fill="lightenLess" w="86366" h="21600">
                <a:moveTo>
                  <a:pt x="0" y="0"/>
                </a:moveTo>
                <a:lnTo>
                  <a:pt x="86366" y="0"/>
                </a:lnTo>
                <a:lnTo>
                  <a:pt x="84966" y="1400"/>
                </a:lnTo>
                <a:lnTo>
                  <a:pt x="1400" y="1400"/>
                </a:lnTo>
                <a:close/>
              </a:path>
              <a:path fill="darken" w="86366" h="21600">
                <a:moveTo>
                  <a:pt x="86366" y="0"/>
                </a:moveTo>
                <a:lnTo>
                  <a:pt x="86366" y="21600"/>
                </a:lnTo>
                <a:lnTo>
                  <a:pt x="84966" y="20200"/>
                </a:lnTo>
                <a:lnTo>
                  <a:pt x="84966" y="1400"/>
                </a:lnTo>
                <a:close/>
              </a:path>
              <a:path fill="darkenLess" w="86366" h="21600">
                <a:moveTo>
                  <a:pt x="86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6" y="20200"/>
                </a:lnTo>
                <a:close/>
              </a:path>
              <a:path fill="lighten" w="86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 Seventee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fought in many du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895480" y="2743200"/>
            <a:ext cx="3505320" cy="533520"/>
          </a:xfrm>
          <a:custGeom>
            <a:avLst/>
            <a:gdLst>
              <a:gd name="textAreaLeft" fmla="*/ 34560 w 3505320"/>
              <a:gd name="textAreaRight" fmla="*/ 3470760 w 3505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1835" h="21600">
                <a:moveTo>
                  <a:pt x="0" y="0"/>
                </a:moveTo>
                <a:lnTo>
                  <a:pt x="141835" y="0"/>
                </a:lnTo>
                <a:lnTo>
                  <a:pt x="141835" y="21600"/>
                </a:lnTo>
                <a:lnTo>
                  <a:pt x="0" y="21600"/>
                </a:lnTo>
                <a:close/>
              </a:path>
              <a:path fill="lightenLess" w="141835" h="21600">
                <a:moveTo>
                  <a:pt x="0" y="0"/>
                </a:moveTo>
                <a:lnTo>
                  <a:pt x="141835" y="0"/>
                </a:lnTo>
                <a:lnTo>
                  <a:pt x="140435" y="1400"/>
                </a:lnTo>
                <a:lnTo>
                  <a:pt x="1400" y="1400"/>
                </a:lnTo>
                <a:close/>
              </a:path>
              <a:path fill="darken" w="141835" h="21600">
                <a:moveTo>
                  <a:pt x="141835" y="0"/>
                </a:moveTo>
                <a:lnTo>
                  <a:pt x="141835" y="21600"/>
                </a:lnTo>
                <a:lnTo>
                  <a:pt x="140435" y="20200"/>
                </a:lnTo>
                <a:lnTo>
                  <a:pt x="140435" y="1400"/>
                </a:lnTo>
                <a:close/>
              </a:path>
              <a:path fill="darkenLess" w="141835" h="21600">
                <a:moveTo>
                  <a:pt x="14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435" y="20200"/>
                </a:lnTo>
                <a:close/>
              </a:path>
              <a:path fill="lighten" w="14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2819520" y="373392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“good deed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extinguish a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 … he was dressed like a fire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0400" y="4419720"/>
            <a:ext cx="2181240" cy="13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95280" y="2438280"/>
            <a:ext cx="69343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're Right!!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05040" cy="2254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28600"/>
            <a:ext cx="2514600" cy="2079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783840" y="51055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5" action="ppaction://hlinksldjump"/>
          </p:cNvPr>
          <p:cNvSpPr/>
          <p:nvPr/>
        </p:nvSpPr>
        <p:spPr>
          <a:xfrm>
            <a:off x="6629400" y="5029200"/>
            <a:ext cx="2286000" cy="1042920"/>
          </a:xfrm>
          <a:custGeom>
            <a:avLst/>
            <a:gdLst>
              <a:gd name="textAreaLeft" fmla="*/ 67320 w 2286000"/>
              <a:gd name="textAreaRight" fmla="*/ 2218680 w 2286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7337" h="21600">
                <a:moveTo>
                  <a:pt x="0" y="0"/>
                </a:moveTo>
                <a:lnTo>
                  <a:pt x="47337" y="0"/>
                </a:lnTo>
                <a:lnTo>
                  <a:pt x="47337" y="21600"/>
                </a:lnTo>
                <a:lnTo>
                  <a:pt x="0" y="21600"/>
                </a:lnTo>
                <a:close/>
              </a:path>
              <a:path fill="lightenLess" w="47337" h="21600">
                <a:moveTo>
                  <a:pt x="0" y="0"/>
                </a:moveTo>
                <a:lnTo>
                  <a:pt x="47337" y="0"/>
                </a:lnTo>
                <a:lnTo>
                  <a:pt x="45937" y="1400"/>
                </a:lnTo>
                <a:lnTo>
                  <a:pt x="1400" y="1400"/>
                </a:lnTo>
                <a:close/>
              </a:path>
              <a:path fill="darken" w="47337" h="21600">
                <a:moveTo>
                  <a:pt x="47337" y="0"/>
                </a:moveTo>
                <a:lnTo>
                  <a:pt x="47337" y="21600"/>
                </a:lnTo>
                <a:lnTo>
                  <a:pt x="45937" y="20200"/>
                </a:lnTo>
                <a:lnTo>
                  <a:pt x="45937" y="1400"/>
                </a:lnTo>
                <a:close/>
              </a:path>
              <a:path fill="darkenLess" w="47337" h="21600">
                <a:moveTo>
                  <a:pt x="47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37" y="20200"/>
                </a:lnTo>
                <a:close/>
              </a:path>
              <a:path fill="lighten" w="47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Thomas Jeffers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the Declaration of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ed stuffy, formal mann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president who liked to be comfor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83200" y="4686480"/>
            <a:ext cx="1590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3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 Instruc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arrow to move to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animation on the page and try to guess which president it relates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, click on the slide to bring up a picture of the correct president to help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rrow button to move on to the next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until you have answered all of the question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65040" y="5715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3886200" y="57150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w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hi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ur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if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ix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Seven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685800" y="1752480"/>
            <a:ext cx="2819520" cy="381240"/>
          </a:xfrm>
          <a:custGeom>
            <a:avLst/>
            <a:gdLst>
              <a:gd name="textAreaLeft" fmla="*/ 24480 w 2819520"/>
              <a:gd name="textAreaRight" fmla="*/ 2795040 w 2819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9616" h="21600">
                <a:moveTo>
                  <a:pt x="0" y="0"/>
                </a:moveTo>
                <a:lnTo>
                  <a:pt x="159616" y="0"/>
                </a:lnTo>
                <a:lnTo>
                  <a:pt x="159616" y="21600"/>
                </a:lnTo>
                <a:lnTo>
                  <a:pt x="0" y="21600"/>
                </a:lnTo>
                <a:close/>
              </a:path>
              <a:path fill="lightenLess" w="159616" h="21600">
                <a:moveTo>
                  <a:pt x="0" y="0"/>
                </a:moveTo>
                <a:lnTo>
                  <a:pt x="159616" y="0"/>
                </a:lnTo>
                <a:lnTo>
                  <a:pt x="158216" y="1400"/>
                </a:lnTo>
                <a:lnTo>
                  <a:pt x="1400" y="1400"/>
                </a:lnTo>
                <a:close/>
              </a:path>
              <a:path fill="darken" w="159616" h="21600">
                <a:moveTo>
                  <a:pt x="159616" y="0"/>
                </a:moveTo>
                <a:lnTo>
                  <a:pt x="159616" y="21600"/>
                </a:lnTo>
                <a:lnTo>
                  <a:pt x="158216" y="20200"/>
                </a:lnTo>
                <a:lnTo>
                  <a:pt x="158216" y="1400"/>
                </a:lnTo>
                <a:close/>
              </a:path>
              <a:path fill="darkenLess" w="159616" h="21600">
                <a:moveTo>
                  <a:pt x="159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8216" y="20200"/>
                </a:lnTo>
                <a:close/>
              </a:path>
              <a:path fill="lighten" w="159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685800" y="2286000"/>
            <a:ext cx="2819520" cy="304920"/>
          </a:xfrm>
          <a:custGeom>
            <a:avLst/>
            <a:gdLst>
              <a:gd name="textAreaLeft" fmla="*/ 19440 w 2819520"/>
              <a:gd name="textAreaRight" fmla="*/ 2800080 w 2819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99520" h="21600">
                <a:moveTo>
                  <a:pt x="0" y="0"/>
                </a:moveTo>
                <a:lnTo>
                  <a:pt x="199520" y="0"/>
                </a:lnTo>
                <a:lnTo>
                  <a:pt x="199520" y="21600"/>
                </a:lnTo>
                <a:lnTo>
                  <a:pt x="0" y="21600"/>
                </a:lnTo>
                <a:close/>
              </a:path>
              <a:path fill="lightenLess" w="199520" h="21600">
                <a:moveTo>
                  <a:pt x="0" y="0"/>
                </a:moveTo>
                <a:lnTo>
                  <a:pt x="199520" y="0"/>
                </a:lnTo>
                <a:lnTo>
                  <a:pt x="198120" y="1400"/>
                </a:lnTo>
                <a:lnTo>
                  <a:pt x="1400" y="1400"/>
                </a:lnTo>
                <a:close/>
              </a:path>
              <a:path fill="darken" w="199520" h="21600">
                <a:moveTo>
                  <a:pt x="199520" y="0"/>
                </a:moveTo>
                <a:lnTo>
                  <a:pt x="199520" y="21600"/>
                </a:lnTo>
                <a:lnTo>
                  <a:pt x="198120" y="20200"/>
                </a:lnTo>
                <a:lnTo>
                  <a:pt x="198120" y="1400"/>
                </a:lnTo>
                <a:close/>
              </a:path>
              <a:path fill="darkenLess" w="199520" h="21600">
                <a:moveTo>
                  <a:pt x="199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120" y="20200"/>
                </a:lnTo>
                <a:close/>
              </a:path>
              <a:path fill="lighten" w="199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4" action="ppaction://hlinksldjump"/>
          </p:cNvPr>
          <p:cNvSpPr/>
          <p:nvPr/>
        </p:nvSpPr>
        <p:spPr>
          <a:xfrm>
            <a:off x="685800" y="2819520"/>
            <a:ext cx="3252960" cy="380880"/>
          </a:xfrm>
          <a:custGeom>
            <a:avLst/>
            <a:gdLst>
              <a:gd name="textAreaLeft" fmla="*/ 24480 w 3252960"/>
              <a:gd name="textAreaRight" fmla="*/ 3228480 w 3252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4324" h="21600">
                <a:moveTo>
                  <a:pt x="0" y="0"/>
                </a:moveTo>
                <a:lnTo>
                  <a:pt x="184324" y="0"/>
                </a:lnTo>
                <a:lnTo>
                  <a:pt x="184324" y="21600"/>
                </a:lnTo>
                <a:lnTo>
                  <a:pt x="0" y="21600"/>
                </a:lnTo>
                <a:close/>
              </a:path>
              <a:path fill="lightenLess" w="184324" h="21600">
                <a:moveTo>
                  <a:pt x="0" y="0"/>
                </a:moveTo>
                <a:lnTo>
                  <a:pt x="184324" y="0"/>
                </a:lnTo>
                <a:lnTo>
                  <a:pt x="182924" y="1400"/>
                </a:lnTo>
                <a:lnTo>
                  <a:pt x="1400" y="1400"/>
                </a:lnTo>
                <a:close/>
              </a:path>
              <a:path fill="darken" w="184324" h="21600">
                <a:moveTo>
                  <a:pt x="184324" y="0"/>
                </a:moveTo>
                <a:lnTo>
                  <a:pt x="184324" y="21600"/>
                </a:lnTo>
                <a:lnTo>
                  <a:pt x="182924" y="20200"/>
                </a:lnTo>
                <a:lnTo>
                  <a:pt x="182924" y="1400"/>
                </a:lnTo>
                <a:close/>
              </a:path>
              <a:path fill="darkenLess" w="184324" h="21600">
                <a:moveTo>
                  <a:pt x="18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924" y="20200"/>
                </a:lnTo>
                <a:close/>
              </a:path>
              <a:path fill="lighten" w="18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5" action="ppaction://hlinksldjump"/>
          </p:cNvPr>
          <p:cNvSpPr/>
          <p:nvPr/>
        </p:nvSpPr>
        <p:spPr>
          <a:xfrm>
            <a:off x="685800" y="327672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6" action="ppaction://hlinksldjump"/>
          </p:cNvPr>
          <p:cNvSpPr/>
          <p:nvPr/>
        </p:nvSpPr>
        <p:spPr>
          <a:xfrm>
            <a:off x="685800" y="38098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7" action="ppaction://hlinksldjump"/>
          </p:cNvPr>
          <p:cNvSpPr/>
          <p:nvPr/>
        </p:nvSpPr>
        <p:spPr>
          <a:xfrm>
            <a:off x="685800" y="4343400"/>
            <a:ext cx="2514600" cy="380880"/>
          </a:xfrm>
          <a:custGeom>
            <a:avLst/>
            <a:gdLst>
              <a:gd name="textAreaLeft" fmla="*/ 24480 w 2514600"/>
              <a:gd name="textAreaRight" fmla="*/ 2490120 w 2514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2491" h="21600">
                <a:moveTo>
                  <a:pt x="0" y="0"/>
                </a:moveTo>
                <a:lnTo>
                  <a:pt x="142491" y="0"/>
                </a:lnTo>
                <a:lnTo>
                  <a:pt x="142491" y="21600"/>
                </a:lnTo>
                <a:lnTo>
                  <a:pt x="0" y="21600"/>
                </a:lnTo>
                <a:close/>
              </a:path>
              <a:path fill="lightenLess" w="142491" h="21600">
                <a:moveTo>
                  <a:pt x="0" y="0"/>
                </a:moveTo>
                <a:lnTo>
                  <a:pt x="142491" y="0"/>
                </a:lnTo>
                <a:lnTo>
                  <a:pt x="141091" y="1400"/>
                </a:lnTo>
                <a:lnTo>
                  <a:pt x="1400" y="1400"/>
                </a:lnTo>
                <a:close/>
              </a:path>
              <a:path fill="darken" w="142491" h="21600">
                <a:moveTo>
                  <a:pt x="142491" y="0"/>
                </a:moveTo>
                <a:lnTo>
                  <a:pt x="142491" y="21600"/>
                </a:lnTo>
                <a:lnTo>
                  <a:pt x="141091" y="20200"/>
                </a:lnTo>
                <a:lnTo>
                  <a:pt x="141091" y="1400"/>
                </a:lnTo>
                <a:close/>
              </a:path>
              <a:path fill="darkenLess" w="142491" h="21600">
                <a:moveTo>
                  <a:pt x="14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091" y="20200"/>
                </a:lnTo>
                <a:close/>
              </a:path>
              <a:path fill="lighten" w="14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8" action="ppaction://hlinksldjump"/>
          </p:cNvPr>
          <p:cNvSpPr/>
          <p:nvPr/>
        </p:nvSpPr>
        <p:spPr>
          <a:xfrm>
            <a:off x="685800" y="4876920"/>
            <a:ext cx="2971800" cy="30456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0543" h="21600">
                <a:moveTo>
                  <a:pt x="0" y="0"/>
                </a:moveTo>
                <a:lnTo>
                  <a:pt x="210543" y="0"/>
                </a:lnTo>
                <a:lnTo>
                  <a:pt x="210543" y="21600"/>
                </a:lnTo>
                <a:lnTo>
                  <a:pt x="0" y="21600"/>
                </a:lnTo>
                <a:close/>
              </a:path>
              <a:path fill="lightenLess" w="210543" h="21600">
                <a:moveTo>
                  <a:pt x="0" y="0"/>
                </a:moveTo>
                <a:lnTo>
                  <a:pt x="210543" y="0"/>
                </a:lnTo>
                <a:lnTo>
                  <a:pt x="209143" y="1400"/>
                </a:lnTo>
                <a:lnTo>
                  <a:pt x="1400" y="1400"/>
                </a:lnTo>
                <a:close/>
              </a:path>
              <a:path fill="darken" w="210543" h="21600">
                <a:moveTo>
                  <a:pt x="210543" y="0"/>
                </a:moveTo>
                <a:lnTo>
                  <a:pt x="210543" y="21600"/>
                </a:lnTo>
                <a:lnTo>
                  <a:pt x="209143" y="20200"/>
                </a:lnTo>
                <a:lnTo>
                  <a:pt x="209143" y="1400"/>
                </a:lnTo>
                <a:close/>
              </a:path>
              <a:path fill="darkenLess" w="210543" h="21600">
                <a:moveTo>
                  <a:pt x="210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43" y="20200"/>
                </a:lnTo>
                <a:close/>
              </a:path>
              <a:path fill="lighten" w="210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9" action="ppaction://hlinksldjump"/>
          </p:cNvPr>
          <p:cNvSpPr/>
          <p:nvPr/>
        </p:nvSpPr>
        <p:spPr>
          <a:xfrm>
            <a:off x="685800" y="53341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10" action="ppaction://hlinksldjump"/>
          </p:cNvPr>
          <p:cNvSpPr/>
          <p:nvPr/>
        </p:nvSpPr>
        <p:spPr>
          <a:xfrm>
            <a:off x="685800" y="58672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1" action="ppaction://hlinksldjump"/>
          </p:cNvPr>
          <p:cNvSpPr/>
          <p:nvPr/>
        </p:nvSpPr>
        <p:spPr>
          <a:xfrm>
            <a:off x="4572000" y="1905120"/>
            <a:ext cx="2643120" cy="457200"/>
          </a:xfrm>
          <a:custGeom>
            <a:avLst/>
            <a:gdLst>
              <a:gd name="textAreaLeft" fmla="*/ 29520 w 2643120"/>
              <a:gd name="textAreaRight" fmla="*/ 2613600 w 26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4791" h="21600">
                <a:moveTo>
                  <a:pt x="0" y="0"/>
                </a:moveTo>
                <a:lnTo>
                  <a:pt x="124791" y="0"/>
                </a:lnTo>
                <a:lnTo>
                  <a:pt x="124791" y="21600"/>
                </a:lnTo>
                <a:lnTo>
                  <a:pt x="0" y="21600"/>
                </a:lnTo>
                <a:close/>
              </a:path>
              <a:path fill="lightenLess" w="124791" h="21600">
                <a:moveTo>
                  <a:pt x="0" y="0"/>
                </a:moveTo>
                <a:lnTo>
                  <a:pt x="124791" y="0"/>
                </a:lnTo>
                <a:lnTo>
                  <a:pt x="123391" y="1400"/>
                </a:lnTo>
                <a:lnTo>
                  <a:pt x="1400" y="1400"/>
                </a:lnTo>
                <a:close/>
              </a:path>
              <a:path fill="darken" w="124791" h="21600">
                <a:moveTo>
                  <a:pt x="124791" y="0"/>
                </a:moveTo>
                <a:lnTo>
                  <a:pt x="124791" y="21600"/>
                </a:lnTo>
                <a:lnTo>
                  <a:pt x="123391" y="20200"/>
                </a:lnTo>
                <a:lnTo>
                  <a:pt x="123391" y="1400"/>
                </a:lnTo>
                <a:close/>
              </a:path>
              <a:path fill="darkenLess" w="124791" h="21600">
                <a:moveTo>
                  <a:pt x="12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91" y="20200"/>
                </a:lnTo>
                <a:close/>
              </a:path>
              <a:path fill="lighten" w="12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12" action="ppaction://hlinksldjump"/>
          </p:cNvPr>
          <p:cNvSpPr/>
          <p:nvPr/>
        </p:nvSpPr>
        <p:spPr>
          <a:xfrm>
            <a:off x="4572000" y="2438280"/>
            <a:ext cx="3124080" cy="381240"/>
          </a:xfrm>
          <a:custGeom>
            <a:avLst/>
            <a:gdLst>
              <a:gd name="textAreaLeft" fmla="*/ 24480 w 3124080"/>
              <a:gd name="textAreaRight" fmla="*/ 3099600 w 31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6855" h="21600">
                <a:moveTo>
                  <a:pt x="0" y="0"/>
                </a:moveTo>
                <a:lnTo>
                  <a:pt x="176855" y="0"/>
                </a:lnTo>
                <a:lnTo>
                  <a:pt x="176855" y="21600"/>
                </a:lnTo>
                <a:lnTo>
                  <a:pt x="0" y="21600"/>
                </a:lnTo>
                <a:close/>
              </a:path>
              <a:path fill="lightenLess" w="176855" h="21600">
                <a:moveTo>
                  <a:pt x="0" y="0"/>
                </a:moveTo>
                <a:lnTo>
                  <a:pt x="176855" y="0"/>
                </a:lnTo>
                <a:lnTo>
                  <a:pt x="175455" y="1400"/>
                </a:lnTo>
                <a:lnTo>
                  <a:pt x="1400" y="1400"/>
                </a:lnTo>
                <a:close/>
              </a:path>
              <a:path fill="darken" w="176855" h="21600">
                <a:moveTo>
                  <a:pt x="176855" y="0"/>
                </a:moveTo>
                <a:lnTo>
                  <a:pt x="176855" y="21600"/>
                </a:lnTo>
                <a:lnTo>
                  <a:pt x="175455" y="20200"/>
                </a:lnTo>
                <a:lnTo>
                  <a:pt x="175455" y="1400"/>
                </a:lnTo>
                <a:close/>
              </a:path>
              <a:path fill="darkenLess" w="176855" h="21600">
                <a:moveTo>
                  <a:pt x="176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455" y="20200"/>
                </a:lnTo>
                <a:close/>
              </a:path>
              <a:path fill="lighten" w="176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3" action="ppaction://hlinksldjump"/>
          </p:cNvPr>
          <p:cNvSpPr/>
          <p:nvPr/>
        </p:nvSpPr>
        <p:spPr>
          <a:xfrm>
            <a:off x="4572000" y="297180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4" action="ppaction://hlinksldjump"/>
          </p:cNvPr>
          <p:cNvSpPr/>
          <p:nvPr/>
        </p:nvSpPr>
        <p:spPr>
          <a:xfrm>
            <a:off x="4572000" y="3429000"/>
            <a:ext cx="3352680" cy="380880"/>
          </a:xfrm>
          <a:custGeom>
            <a:avLst/>
            <a:gdLst>
              <a:gd name="textAreaLeft" fmla="*/ 24480 w 3352680"/>
              <a:gd name="textAreaRight" fmla="*/ 3328200 w 3352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5" action="ppaction://hlinksldjump"/>
          </p:cNvPr>
          <p:cNvSpPr/>
          <p:nvPr/>
        </p:nvSpPr>
        <p:spPr>
          <a:xfrm>
            <a:off x="4572000" y="3886200"/>
            <a:ext cx="3429000" cy="533520"/>
          </a:xfrm>
          <a:custGeom>
            <a:avLst/>
            <a:gdLst>
              <a:gd name="textAreaLeft" fmla="*/ 34560 w 3429000"/>
              <a:gd name="textAreaRight" fmla="*/ 3394440 w 3429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8747" h="21600">
                <a:moveTo>
                  <a:pt x="0" y="0"/>
                </a:moveTo>
                <a:lnTo>
                  <a:pt x="138747" y="0"/>
                </a:lnTo>
                <a:lnTo>
                  <a:pt x="138747" y="21600"/>
                </a:lnTo>
                <a:lnTo>
                  <a:pt x="0" y="21600"/>
                </a:lnTo>
                <a:close/>
              </a:path>
              <a:path fill="lightenLess" w="138747" h="21600">
                <a:moveTo>
                  <a:pt x="0" y="0"/>
                </a:moveTo>
                <a:lnTo>
                  <a:pt x="138747" y="0"/>
                </a:lnTo>
                <a:lnTo>
                  <a:pt x="137347" y="1400"/>
                </a:lnTo>
                <a:lnTo>
                  <a:pt x="1400" y="1400"/>
                </a:lnTo>
                <a:close/>
              </a:path>
              <a:path fill="darken" w="138747" h="21600">
                <a:moveTo>
                  <a:pt x="138747" y="0"/>
                </a:moveTo>
                <a:lnTo>
                  <a:pt x="138747" y="21600"/>
                </a:lnTo>
                <a:lnTo>
                  <a:pt x="137347" y="20200"/>
                </a:lnTo>
                <a:lnTo>
                  <a:pt x="137347" y="1400"/>
                </a:lnTo>
                <a:close/>
              </a:path>
              <a:path fill="darkenLess" w="138747" h="21600">
                <a:moveTo>
                  <a:pt x="138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347" y="20200"/>
                </a:lnTo>
                <a:close/>
              </a:path>
              <a:path fill="lighten" w="138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6" action="ppaction://hlinksldjump"/>
          </p:cNvPr>
          <p:cNvSpPr/>
          <p:nvPr/>
        </p:nvSpPr>
        <p:spPr>
          <a:xfrm>
            <a:off x="4648320" y="4495680"/>
            <a:ext cx="2971800" cy="304920"/>
          </a:xfrm>
          <a:custGeom>
            <a:avLst/>
            <a:gdLst>
              <a:gd name="textAreaLeft" fmla="*/ 19440 w 2971800"/>
              <a:gd name="textAreaRight" fmla="*/ 2952360 w 2971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0294" h="21600">
                <a:moveTo>
                  <a:pt x="0" y="0"/>
                </a:moveTo>
                <a:lnTo>
                  <a:pt x="210294" y="0"/>
                </a:lnTo>
                <a:lnTo>
                  <a:pt x="210294" y="21600"/>
                </a:lnTo>
                <a:lnTo>
                  <a:pt x="0" y="21600"/>
                </a:lnTo>
                <a:close/>
              </a:path>
              <a:path fill="lightenLess" w="210294" h="21600">
                <a:moveTo>
                  <a:pt x="0" y="0"/>
                </a:moveTo>
                <a:lnTo>
                  <a:pt x="210294" y="0"/>
                </a:lnTo>
                <a:lnTo>
                  <a:pt x="208894" y="1400"/>
                </a:lnTo>
                <a:lnTo>
                  <a:pt x="1400" y="1400"/>
                </a:lnTo>
                <a:close/>
              </a:path>
              <a:path fill="darken" w="210294" h="21600">
                <a:moveTo>
                  <a:pt x="210294" y="0"/>
                </a:moveTo>
                <a:lnTo>
                  <a:pt x="210294" y="21600"/>
                </a:lnTo>
                <a:lnTo>
                  <a:pt x="208894" y="20200"/>
                </a:lnTo>
                <a:lnTo>
                  <a:pt x="208894" y="1400"/>
                </a:lnTo>
                <a:close/>
              </a:path>
              <a:path fill="darkenLess" w="210294" h="21600">
                <a:moveTo>
                  <a:pt x="21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94" y="20200"/>
                </a:lnTo>
                <a:close/>
              </a:path>
              <a:path fill="lighten" w="21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17" action="ppaction://hlinksldjump"/>
          </p:cNvPr>
          <p:cNvSpPr/>
          <p:nvPr/>
        </p:nvSpPr>
        <p:spPr>
          <a:xfrm>
            <a:off x="4572000" y="5029200"/>
            <a:ext cx="3252960" cy="304920"/>
          </a:xfrm>
          <a:custGeom>
            <a:avLst/>
            <a:gdLst>
              <a:gd name="textAreaLeft" fmla="*/ 19440 w 3252960"/>
              <a:gd name="textAreaRight" fmla="*/ 3233520 w 32529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30188" h="21600">
                <a:moveTo>
                  <a:pt x="0" y="0"/>
                </a:moveTo>
                <a:lnTo>
                  <a:pt x="230188" y="0"/>
                </a:lnTo>
                <a:lnTo>
                  <a:pt x="230188" y="21600"/>
                </a:lnTo>
                <a:lnTo>
                  <a:pt x="0" y="21600"/>
                </a:lnTo>
                <a:close/>
              </a:path>
              <a:path fill="lightenLess" w="230188" h="21600">
                <a:moveTo>
                  <a:pt x="0" y="0"/>
                </a:moveTo>
                <a:lnTo>
                  <a:pt x="230188" y="0"/>
                </a:lnTo>
                <a:lnTo>
                  <a:pt x="228788" y="1400"/>
                </a:lnTo>
                <a:lnTo>
                  <a:pt x="1400" y="1400"/>
                </a:lnTo>
                <a:close/>
              </a:path>
              <a:path fill="darken" w="230188" h="21600">
                <a:moveTo>
                  <a:pt x="230188" y="0"/>
                </a:moveTo>
                <a:lnTo>
                  <a:pt x="230188" y="21600"/>
                </a:lnTo>
                <a:lnTo>
                  <a:pt x="228788" y="20200"/>
                </a:lnTo>
                <a:lnTo>
                  <a:pt x="228788" y="1400"/>
                </a:lnTo>
                <a:close/>
              </a:path>
              <a:path fill="darkenLess" w="230188" h="21600">
                <a:moveTo>
                  <a:pt x="230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8" y="20200"/>
                </a:lnTo>
                <a:close/>
              </a:path>
              <a:path fill="lighten" w="230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4572000" y="5562720"/>
            <a:ext cx="3733920" cy="380880"/>
          </a:xfrm>
          <a:custGeom>
            <a:avLst/>
            <a:gdLst>
              <a:gd name="textAreaLeft" fmla="*/ 24480 w 3733920"/>
              <a:gd name="textAreaRight" fmla="*/ 3709440 w 3733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74" h="21600">
                <a:moveTo>
                  <a:pt x="0" y="0"/>
                </a:moveTo>
                <a:lnTo>
                  <a:pt x="211574" y="0"/>
                </a:lnTo>
                <a:lnTo>
                  <a:pt x="211574" y="21600"/>
                </a:lnTo>
                <a:lnTo>
                  <a:pt x="0" y="21600"/>
                </a:lnTo>
                <a:close/>
              </a:path>
              <a:path fill="lightenLess" w="211574" h="21600">
                <a:moveTo>
                  <a:pt x="0" y="0"/>
                </a:moveTo>
                <a:lnTo>
                  <a:pt x="211574" y="0"/>
                </a:lnTo>
                <a:lnTo>
                  <a:pt x="210174" y="1400"/>
                </a:lnTo>
                <a:lnTo>
                  <a:pt x="1400" y="1400"/>
                </a:lnTo>
                <a:close/>
              </a:path>
              <a:path fill="darken" w="211574" h="21600">
                <a:moveTo>
                  <a:pt x="211574" y="0"/>
                </a:moveTo>
                <a:lnTo>
                  <a:pt x="211574" y="21600"/>
                </a:lnTo>
                <a:lnTo>
                  <a:pt x="210174" y="20200"/>
                </a:lnTo>
                <a:lnTo>
                  <a:pt x="210174" y="1400"/>
                </a:lnTo>
                <a:close/>
              </a:path>
              <a:path fill="darkenLess" w="211574" h="21600">
                <a:moveTo>
                  <a:pt x="211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74" y="20200"/>
                </a:lnTo>
                <a:close/>
              </a:path>
              <a:path fill="lighten" w="211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60357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601992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drew Jackso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in many du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t in the ch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d “Old Hick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had bullets for eyes and a rifle for a mou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97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vin Cool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2627280" cy="23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81080" y="464832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6" action="ppaction://hlinksldjump"/>
          </p:cNvPr>
          <p:cNvSpPr/>
          <p:nvPr/>
        </p:nvSpPr>
        <p:spPr>
          <a:xfrm>
            <a:off x="4572000" y="3657600"/>
            <a:ext cx="4038480" cy="609480"/>
          </a:xfrm>
          <a:custGeom>
            <a:avLst/>
            <a:gdLst>
              <a:gd name="textAreaLeft" fmla="*/ 39240 w 4038480"/>
              <a:gd name="textAreaRight" fmla="*/ 3999240 w 4038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52" h="21600">
                <a:moveTo>
                  <a:pt x="0" y="0"/>
                </a:moveTo>
                <a:lnTo>
                  <a:pt x="143052" y="0"/>
                </a:lnTo>
                <a:lnTo>
                  <a:pt x="143052" y="21600"/>
                </a:lnTo>
                <a:lnTo>
                  <a:pt x="0" y="21600"/>
                </a:lnTo>
                <a:close/>
              </a:path>
              <a:path fill="lightenLess" w="143052" h="21600">
                <a:moveTo>
                  <a:pt x="0" y="0"/>
                </a:moveTo>
                <a:lnTo>
                  <a:pt x="143052" y="0"/>
                </a:lnTo>
                <a:lnTo>
                  <a:pt x="141652" y="1400"/>
                </a:lnTo>
                <a:lnTo>
                  <a:pt x="1400" y="1400"/>
                </a:lnTo>
                <a:close/>
              </a:path>
              <a:path fill="darken" w="143052" h="21600">
                <a:moveTo>
                  <a:pt x="143052" y="0"/>
                </a:moveTo>
                <a:lnTo>
                  <a:pt x="143052" y="21600"/>
                </a:lnTo>
                <a:lnTo>
                  <a:pt x="141652" y="20200"/>
                </a:lnTo>
                <a:lnTo>
                  <a:pt x="141652" y="1400"/>
                </a:lnTo>
                <a:close/>
              </a:path>
              <a:path fill="darkenLess" w="143052" h="21600">
                <a:moveTo>
                  <a:pt x="143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52" y="20200"/>
                </a:lnTo>
                <a:close/>
              </a:path>
              <a:path fill="lighten" w="143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403848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16" name="">
            <a:hlinkClick r:id="rId5" action="ppaction://hlinksldjump"/>
          </p:cNvPr>
          <p:cNvSpPr/>
          <p:nvPr/>
        </p:nvSpPr>
        <p:spPr>
          <a:xfrm>
            <a:off x="4800600" y="358128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6" action="ppaction://hlinksldjump"/>
          </p:cNvPr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2306520" cy="1657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1828800" cy="154152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4724280" y="3505320"/>
            <a:ext cx="3810240" cy="685800"/>
          </a:xfrm>
          <a:custGeom>
            <a:avLst/>
            <a:gdLst>
              <a:gd name="textAreaLeft" fmla="*/ 44280 w 3810240"/>
              <a:gd name="textAreaRight" fmla="*/ 3765960 w 3810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56" h="21600">
                <a:moveTo>
                  <a:pt x="0" y="0"/>
                </a:moveTo>
                <a:lnTo>
                  <a:pt x="119956" y="0"/>
                </a:lnTo>
                <a:lnTo>
                  <a:pt x="119956" y="21600"/>
                </a:lnTo>
                <a:lnTo>
                  <a:pt x="0" y="21600"/>
                </a:lnTo>
                <a:close/>
              </a:path>
              <a:path fill="lightenLess" w="119956" h="21600">
                <a:moveTo>
                  <a:pt x="0" y="0"/>
                </a:moveTo>
                <a:lnTo>
                  <a:pt x="119956" y="0"/>
                </a:lnTo>
                <a:lnTo>
                  <a:pt x="118556" y="1400"/>
                </a:lnTo>
                <a:lnTo>
                  <a:pt x="1400" y="1400"/>
                </a:lnTo>
                <a:close/>
              </a:path>
              <a:path fill="darken" w="119956" h="21600">
                <a:moveTo>
                  <a:pt x="119956" y="0"/>
                </a:moveTo>
                <a:lnTo>
                  <a:pt x="119956" y="21600"/>
                </a:lnTo>
                <a:lnTo>
                  <a:pt x="118556" y="20200"/>
                </a:lnTo>
                <a:lnTo>
                  <a:pt x="118556" y="1400"/>
                </a:lnTo>
                <a:close/>
              </a:path>
              <a:path fill="darkenLess" w="119956" h="21600">
                <a:moveTo>
                  <a:pt x="11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56" y="20200"/>
                </a:lnTo>
                <a:close/>
              </a:path>
              <a:path fill="lighten" w="11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41972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2932200" cy="17845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1295280" y="4114800"/>
            <a:ext cx="1981440" cy="161784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rId4" action="ppaction://hlinksldjump"/>
          </p:cNvPr>
          <p:cNvSpPr/>
          <p:nvPr/>
        </p:nvSpPr>
        <p:spPr>
          <a:xfrm>
            <a:off x="4267080" y="3962520"/>
            <a:ext cx="4114800" cy="685800"/>
          </a:xfrm>
          <a:custGeom>
            <a:avLst/>
            <a:gdLst>
              <a:gd name="textAreaLeft" fmla="*/ 44280 w 4114800"/>
              <a:gd name="textAreaRight" fmla="*/ 4070520 w 4114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8143" y="1400"/>
                </a:lnTo>
                <a:lnTo>
                  <a:pt x="1400" y="1400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8143" y="20200"/>
                </a:lnTo>
                <a:lnTo>
                  <a:pt x="128143" y="1400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43" y="20200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89548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063520" cy="1892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038480"/>
            <a:ext cx="1676160" cy="1467000"/>
          </a:xfrm>
          <a:prstGeom prst="rect">
            <a:avLst/>
          </a:prstGeom>
          <a:ln w="0">
            <a:noFill/>
          </a:ln>
        </p:spPr>
      </p:pic>
      <p:sp>
        <p:nvSpPr>
          <p:cNvPr id="434" name="">
            <a:hlinkClick r:id="rId5" action="ppaction://hlinksldjump"/>
          </p:cNvPr>
          <p:cNvSpPr/>
          <p:nvPr/>
        </p:nvSpPr>
        <p:spPr>
          <a:xfrm>
            <a:off x="4572000" y="29718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8320" y="4419720"/>
            <a:ext cx="3276360" cy="685800"/>
          </a:xfrm>
          <a:custGeom>
            <a:avLst/>
            <a:gdLst>
              <a:gd name="textAreaLeft" fmla="*/ 44280 w 3276360"/>
              <a:gd name="textAreaRight" fmla="*/ 3232080 w 3276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50" h="21600">
                <a:moveTo>
                  <a:pt x="0" y="0"/>
                </a:moveTo>
                <a:lnTo>
                  <a:pt x="103150" y="0"/>
                </a:lnTo>
                <a:lnTo>
                  <a:pt x="103150" y="21600"/>
                </a:lnTo>
                <a:lnTo>
                  <a:pt x="0" y="21600"/>
                </a:lnTo>
                <a:close/>
              </a:path>
              <a:path fill="lightenLess" w="103150" h="21600">
                <a:moveTo>
                  <a:pt x="0" y="0"/>
                </a:moveTo>
                <a:lnTo>
                  <a:pt x="103150" y="0"/>
                </a:lnTo>
                <a:lnTo>
                  <a:pt x="101750" y="1400"/>
                </a:lnTo>
                <a:lnTo>
                  <a:pt x="1400" y="1400"/>
                </a:lnTo>
                <a:close/>
              </a:path>
              <a:path fill="darken" w="103150" h="21600">
                <a:moveTo>
                  <a:pt x="103150" y="0"/>
                </a:moveTo>
                <a:lnTo>
                  <a:pt x="103150" y="21600"/>
                </a:lnTo>
                <a:lnTo>
                  <a:pt x="101750" y="20200"/>
                </a:lnTo>
                <a:lnTo>
                  <a:pt x="101750" y="1400"/>
                </a:lnTo>
                <a:close/>
              </a:path>
              <a:path fill="darkenLess" w="103150" h="21600">
                <a:moveTo>
                  <a:pt x="10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50" y="20200"/>
                </a:lnTo>
                <a:close/>
              </a:path>
              <a:path fill="lighten" w="10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2116080" cy="2094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19720"/>
            <a:ext cx="1752480" cy="15332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4648320" y="25909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39625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2281320" cy="2027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71600" y="4267080"/>
            <a:ext cx="1600200" cy="140040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038480"/>
            <a:ext cx="1904760" cy="166716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rId5" action="ppaction://hlinksldjump"/>
          </p:cNvPr>
          <p:cNvSpPr/>
          <p:nvPr/>
        </p:nvSpPr>
        <p:spPr>
          <a:xfrm>
            <a:off x="4800600" y="251460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1911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5" action="ppaction://hlinksldjump"/>
          </p:cNvPr>
          <p:cNvSpPr/>
          <p:nvPr/>
        </p:nvSpPr>
        <p:spPr>
          <a:xfrm>
            <a:off x="4572000" y="358128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1936800" cy="1851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47920" y="4200480"/>
            <a:ext cx="1904760" cy="166680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rId5" action="ppaction://hlinksldjump"/>
          </p:cNvPr>
          <p:cNvSpPr/>
          <p:nvPr/>
        </p:nvSpPr>
        <p:spPr>
          <a:xfrm>
            <a:off x="4724280" y="251460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350532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d humor and didn’t take himself too ser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 the slaves by signing the Emancipation Pro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“Honest Ab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dressed in leather and had spiky hai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85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9112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2514600" cy="2379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267080"/>
            <a:ext cx="1904760" cy="166716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350532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343040" y="1676520"/>
            <a:ext cx="4343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044440" cy="2171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3962520"/>
            <a:ext cx="1905120" cy="166680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4191120" y="3505320"/>
            <a:ext cx="4267080" cy="685800"/>
          </a:xfrm>
          <a:custGeom>
            <a:avLst/>
            <a:gdLst>
              <a:gd name="textAreaLeft" fmla="*/ 44280 w 4267080"/>
              <a:gd name="textAreaRight" fmla="*/ 4222800 w 426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37" h="21600">
                <a:moveTo>
                  <a:pt x="0" y="0"/>
                </a:moveTo>
                <a:lnTo>
                  <a:pt x="134337" y="0"/>
                </a:lnTo>
                <a:lnTo>
                  <a:pt x="134337" y="21600"/>
                </a:lnTo>
                <a:lnTo>
                  <a:pt x="0" y="21600"/>
                </a:lnTo>
                <a:close/>
              </a:path>
              <a:path fill="lightenLess" w="134337" h="21600">
                <a:moveTo>
                  <a:pt x="0" y="0"/>
                </a:moveTo>
                <a:lnTo>
                  <a:pt x="134337" y="0"/>
                </a:lnTo>
                <a:lnTo>
                  <a:pt x="132937" y="1400"/>
                </a:lnTo>
                <a:lnTo>
                  <a:pt x="1400" y="1400"/>
                </a:lnTo>
                <a:close/>
              </a:path>
              <a:path fill="darken" w="134337" h="21600">
                <a:moveTo>
                  <a:pt x="134337" y="0"/>
                </a:moveTo>
                <a:lnTo>
                  <a:pt x="134337" y="21600"/>
                </a:lnTo>
                <a:lnTo>
                  <a:pt x="132937" y="20200"/>
                </a:lnTo>
                <a:lnTo>
                  <a:pt x="132937" y="1400"/>
                </a:lnTo>
                <a:close/>
              </a:path>
              <a:path fill="darkenLess" w="134337" h="21600">
                <a:moveTo>
                  <a:pt x="13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37" y="20200"/>
                </a:lnTo>
                <a:close/>
              </a:path>
              <a:path fill="lighten" w="13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25146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26708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314960"/>
            <a:ext cx="1828800" cy="1539720"/>
          </a:xfrm>
          <a:prstGeom prst="rect">
            <a:avLst/>
          </a:prstGeom>
          <a:ln w="0">
            <a:noFill/>
          </a:ln>
        </p:spPr>
      </p:pic>
      <p:sp>
        <p:nvSpPr>
          <p:cNvPr id="482" name="">
            <a:hlinkClick r:id="rId5" action="ppaction://hlinksldjump"/>
          </p:cNvPr>
          <p:cNvSpPr/>
          <p:nvPr/>
        </p:nvSpPr>
        <p:spPr>
          <a:xfrm>
            <a:off x="4267080" y="2590920"/>
            <a:ext cx="3810240" cy="685800"/>
          </a:xfrm>
          <a:custGeom>
            <a:avLst/>
            <a:gdLst>
              <a:gd name="textAreaLeft" fmla="*/ 44280 w 3810240"/>
              <a:gd name="textAreaRight" fmla="*/ 3765960 w 3810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56" h="21600">
                <a:moveTo>
                  <a:pt x="0" y="0"/>
                </a:moveTo>
                <a:lnTo>
                  <a:pt x="119956" y="0"/>
                </a:lnTo>
                <a:lnTo>
                  <a:pt x="119956" y="21600"/>
                </a:lnTo>
                <a:lnTo>
                  <a:pt x="0" y="21600"/>
                </a:lnTo>
                <a:close/>
              </a:path>
              <a:path fill="lightenLess" w="119956" h="21600">
                <a:moveTo>
                  <a:pt x="0" y="0"/>
                </a:moveTo>
                <a:lnTo>
                  <a:pt x="119956" y="0"/>
                </a:lnTo>
                <a:lnTo>
                  <a:pt x="118556" y="1400"/>
                </a:lnTo>
                <a:lnTo>
                  <a:pt x="1400" y="1400"/>
                </a:lnTo>
                <a:close/>
              </a:path>
              <a:path fill="darken" w="119956" h="21600">
                <a:moveTo>
                  <a:pt x="119956" y="0"/>
                </a:moveTo>
                <a:lnTo>
                  <a:pt x="119956" y="21600"/>
                </a:lnTo>
                <a:lnTo>
                  <a:pt x="118556" y="20200"/>
                </a:lnTo>
                <a:lnTo>
                  <a:pt x="118556" y="1400"/>
                </a:lnTo>
                <a:close/>
              </a:path>
              <a:path fill="darkenLess" w="119956" h="21600">
                <a:moveTo>
                  <a:pt x="119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56" y="20200"/>
                </a:lnTo>
                <a:close/>
              </a:path>
              <a:path fill="lighten" w="119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505320"/>
            <a:ext cx="4191120" cy="685800"/>
          </a:xfrm>
          <a:custGeom>
            <a:avLst/>
            <a:gdLst>
              <a:gd name="textAreaLeft" fmla="*/ 44280 w 4191120"/>
              <a:gd name="textAreaRight" fmla="*/ 4146840 w 4191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1946" h="21600">
                <a:moveTo>
                  <a:pt x="0" y="0"/>
                </a:moveTo>
                <a:lnTo>
                  <a:pt x="131946" y="0"/>
                </a:lnTo>
                <a:lnTo>
                  <a:pt x="131946" y="21600"/>
                </a:lnTo>
                <a:lnTo>
                  <a:pt x="0" y="21600"/>
                </a:lnTo>
                <a:close/>
              </a:path>
              <a:path fill="lightenLess" w="131946" h="21600">
                <a:moveTo>
                  <a:pt x="0" y="0"/>
                </a:moveTo>
                <a:lnTo>
                  <a:pt x="131946" y="0"/>
                </a:lnTo>
                <a:lnTo>
                  <a:pt x="130546" y="1400"/>
                </a:lnTo>
                <a:lnTo>
                  <a:pt x="1400" y="1400"/>
                </a:lnTo>
                <a:close/>
              </a:path>
              <a:path fill="darken" w="131946" h="21600">
                <a:moveTo>
                  <a:pt x="131946" y="0"/>
                </a:moveTo>
                <a:lnTo>
                  <a:pt x="131946" y="21600"/>
                </a:lnTo>
                <a:lnTo>
                  <a:pt x="130546" y="20200"/>
                </a:lnTo>
                <a:lnTo>
                  <a:pt x="130546" y="1400"/>
                </a:lnTo>
                <a:close/>
              </a:path>
              <a:path fill="darkenLess" w="131946" h="21600">
                <a:moveTo>
                  <a:pt x="131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546" y="20200"/>
                </a:lnTo>
                <a:close/>
              </a:path>
              <a:path fill="lighten" w="131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405160" cy="210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95680"/>
            <a:ext cx="1752480" cy="153360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rId5" action="ppaction://hlinksldjump"/>
          </p:cNvPr>
          <p:cNvSpPr/>
          <p:nvPr/>
        </p:nvSpPr>
        <p:spPr>
          <a:xfrm>
            <a:off x="4572000" y="35053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24280" y="2514600"/>
            <a:ext cx="3276720" cy="685800"/>
          </a:xfrm>
          <a:custGeom>
            <a:avLst/>
            <a:gdLst>
              <a:gd name="textAreaLeft" fmla="*/ 44280 w 3276720"/>
              <a:gd name="textAreaRight" fmla="*/ 3232440 w 3276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3161" h="21600">
                <a:moveTo>
                  <a:pt x="0" y="0"/>
                </a:moveTo>
                <a:lnTo>
                  <a:pt x="103161" y="0"/>
                </a:lnTo>
                <a:lnTo>
                  <a:pt x="103161" y="21600"/>
                </a:lnTo>
                <a:lnTo>
                  <a:pt x="0" y="21600"/>
                </a:lnTo>
                <a:close/>
              </a:path>
              <a:path fill="lightenLess" w="103161" h="21600">
                <a:moveTo>
                  <a:pt x="0" y="0"/>
                </a:moveTo>
                <a:lnTo>
                  <a:pt x="103161" y="0"/>
                </a:lnTo>
                <a:lnTo>
                  <a:pt x="101761" y="1400"/>
                </a:lnTo>
                <a:lnTo>
                  <a:pt x="1400" y="1400"/>
                </a:lnTo>
                <a:close/>
              </a:path>
              <a:path fill="darken" w="103161" h="21600">
                <a:moveTo>
                  <a:pt x="103161" y="0"/>
                </a:moveTo>
                <a:lnTo>
                  <a:pt x="103161" y="21600"/>
                </a:lnTo>
                <a:lnTo>
                  <a:pt x="101761" y="20200"/>
                </a:lnTo>
                <a:lnTo>
                  <a:pt x="101761" y="1400"/>
                </a:lnTo>
                <a:close/>
              </a:path>
              <a:path fill="darkenLess" w="103161" h="21600">
                <a:moveTo>
                  <a:pt x="10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761" y="20200"/>
                </a:lnTo>
                <a:close/>
              </a:path>
              <a:path fill="lighten" w="10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ysses S.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2536920" cy="1860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4114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rId5" action="ppaction://hlinksldjump"/>
          </p:cNvPr>
          <p:cNvSpPr/>
          <p:nvPr/>
        </p:nvSpPr>
        <p:spPr>
          <a:xfrm>
            <a:off x="4572000" y="350532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514600"/>
            <a:ext cx="4267080" cy="685800"/>
          </a:xfrm>
          <a:custGeom>
            <a:avLst/>
            <a:gdLst>
              <a:gd name="textAreaLeft" fmla="*/ 44280 w 4267080"/>
              <a:gd name="textAreaRight" fmla="*/ 4222800 w 426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37" h="21600">
                <a:moveTo>
                  <a:pt x="0" y="0"/>
                </a:moveTo>
                <a:lnTo>
                  <a:pt x="134337" y="0"/>
                </a:lnTo>
                <a:lnTo>
                  <a:pt x="134337" y="21600"/>
                </a:lnTo>
                <a:lnTo>
                  <a:pt x="0" y="21600"/>
                </a:lnTo>
                <a:close/>
              </a:path>
              <a:path fill="lightenLess" w="134337" h="21600">
                <a:moveTo>
                  <a:pt x="0" y="0"/>
                </a:moveTo>
                <a:lnTo>
                  <a:pt x="134337" y="0"/>
                </a:lnTo>
                <a:lnTo>
                  <a:pt x="132937" y="1400"/>
                </a:lnTo>
                <a:lnTo>
                  <a:pt x="1400" y="1400"/>
                </a:lnTo>
                <a:close/>
              </a:path>
              <a:path fill="darken" w="134337" h="21600">
                <a:moveTo>
                  <a:pt x="134337" y="0"/>
                </a:moveTo>
                <a:lnTo>
                  <a:pt x="134337" y="21600"/>
                </a:lnTo>
                <a:lnTo>
                  <a:pt x="132937" y="20200"/>
                </a:lnTo>
                <a:lnTo>
                  <a:pt x="132937" y="1400"/>
                </a:lnTo>
                <a:close/>
              </a:path>
              <a:path fill="darkenLess" w="134337" h="21600">
                <a:moveTo>
                  <a:pt x="13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37" y="20200"/>
                </a:lnTo>
                <a:close/>
              </a:path>
              <a:path fill="lighten" w="13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1892160" cy="15382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191120"/>
            <a:ext cx="1752840" cy="151272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3505320"/>
            <a:ext cx="3504960" cy="685800"/>
          </a:xfrm>
          <a:custGeom>
            <a:avLst/>
            <a:gdLst>
              <a:gd name="textAreaLeft" fmla="*/ 44280 w 3504960"/>
              <a:gd name="textAreaRight" fmla="*/ 3460680 w 3504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46" h="21600">
                <a:moveTo>
                  <a:pt x="0" y="0"/>
                </a:moveTo>
                <a:lnTo>
                  <a:pt x="110346" y="0"/>
                </a:lnTo>
                <a:lnTo>
                  <a:pt x="110346" y="21600"/>
                </a:lnTo>
                <a:lnTo>
                  <a:pt x="0" y="21600"/>
                </a:lnTo>
                <a:close/>
              </a:path>
              <a:path fill="lightenLess" w="110346" h="21600">
                <a:moveTo>
                  <a:pt x="0" y="0"/>
                </a:moveTo>
                <a:lnTo>
                  <a:pt x="110346" y="0"/>
                </a:lnTo>
                <a:lnTo>
                  <a:pt x="108946" y="1400"/>
                </a:lnTo>
                <a:lnTo>
                  <a:pt x="1400" y="1400"/>
                </a:lnTo>
                <a:close/>
              </a:path>
              <a:path fill="darken" w="110346" h="21600">
                <a:moveTo>
                  <a:pt x="110346" y="0"/>
                </a:moveTo>
                <a:lnTo>
                  <a:pt x="110346" y="21600"/>
                </a:lnTo>
                <a:lnTo>
                  <a:pt x="108946" y="20200"/>
                </a:lnTo>
                <a:lnTo>
                  <a:pt x="108946" y="1400"/>
                </a:lnTo>
                <a:close/>
              </a:path>
              <a:path fill="darkenLess" w="110346" h="21600">
                <a:moveTo>
                  <a:pt x="110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46" y="20200"/>
                </a:lnTo>
                <a:close/>
              </a:path>
              <a:path fill="lighten" w="110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Guess Who?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762080" y="1676520"/>
            <a:ext cx="392436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2879640" cy="19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52480" y="43434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4648320" y="2590920"/>
            <a:ext cx="3429000" cy="685800"/>
          </a:xfrm>
          <a:custGeom>
            <a:avLst/>
            <a:gdLst>
              <a:gd name="textAreaLeft" fmla="*/ 44280 w 3429000"/>
              <a:gd name="textAreaRight" fmla="*/ 3384720 w 3429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7955" h="21600">
                <a:moveTo>
                  <a:pt x="0" y="0"/>
                </a:moveTo>
                <a:lnTo>
                  <a:pt x="107955" y="0"/>
                </a:lnTo>
                <a:lnTo>
                  <a:pt x="107955" y="21600"/>
                </a:lnTo>
                <a:lnTo>
                  <a:pt x="0" y="21600"/>
                </a:lnTo>
                <a:close/>
              </a:path>
              <a:path fill="lightenLess" w="107955" h="21600">
                <a:moveTo>
                  <a:pt x="0" y="0"/>
                </a:moveTo>
                <a:lnTo>
                  <a:pt x="107955" y="0"/>
                </a:lnTo>
                <a:lnTo>
                  <a:pt x="106555" y="1400"/>
                </a:lnTo>
                <a:lnTo>
                  <a:pt x="1400" y="1400"/>
                </a:lnTo>
                <a:close/>
              </a:path>
              <a:path fill="darken" w="107955" h="21600">
                <a:moveTo>
                  <a:pt x="107955" y="0"/>
                </a:moveTo>
                <a:lnTo>
                  <a:pt x="107955" y="21600"/>
                </a:lnTo>
                <a:lnTo>
                  <a:pt x="106555" y="20200"/>
                </a:lnTo>
                <a:lnTo>
                  <a:pt x="106555" y="1400"/>
                </a:lnTo>
                <a:close/>
              </a:path>
              <a:path fill="darkenLess" w="107955" h="21600">
                <a:moveTo>
                  <a:pt x="10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5" y="20200"/>
                </a:lnTo>
                <a:close/>
              </a:path>
              <a:path fill="lighten" w="10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3581280"/>
            <a:ext cx="3581640" cy="685800"/>
          </a:xfrm>
          <a:custGeom>
            <a:avLst/>
            <a:gdLst>
              <a:gd name="textAreaLeft" fmla="*/ 44280 w 3581640"/>
              <a:gd name="textAreaRight" fmla="*/ 3537360 w 3581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2760" h="21600">
                <a:moveTo>
                  <a:pt x="0" y="0"/>
                </a:moveTo>
                <a:lnTo>
                  <a:pt x="112760" y="0"/>
                </a:lnTo>
                <a:lnTo>
                  <a:pt x="112760" y="21600"/>
                </a:lnTo>
                <a:lnTo>
                  <a:pt x="0" y="21600"/>
                </a:lnTo>
                <a:close/>
              </a:path>
              <a:path fill="lightenLess" w="112760" h="21600">
                <a:moveTo>
                  <a:pt x="0" y="0"/>
                </a:moveTo>
                <a:lnTo>
                  <a:pt x="112760" y="0"/>
                </a:lnTo>
                <a:lnTo>
                  <a:pt x="111360" y="1400"/>
                </a:lnTo>
                <a:lnTo>
                  <a:pt x="1400" y="1400"/>
                </a:lnTo>
                <a:close/>
              </a:path>
              <a:path fill="darken" w="112760" h="21600">
                <a:moveTo>
                  <a:pt x="112760" y="0"/>
                </a:moveTo>
                <a:lnTo>
                  <a:pt x="112760" y="21600"/>
                </a:lnTo>
                <a:lnTo>
                  <a:pt x="111360" y="20200"/>
                </a:lnTo>
                <a:lnTo>
                  <a:pt x="111360" y="1400"/>
                </a:lnTo>
                <a:close/>
              </a:path>
              <a:path fill="darkenLess" w="112760" h="21600">
                <a:moveTo>
                  <a:pt x="112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60" y="20200"/>
                </a:lnTo>
                <a:close/>
              </a:path>
              <a:path fill="lighten" w="112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1295280" y="2438280"/>
            <a:ext cx="69343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're Right!!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05040" cy="22543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28600"/>
            <a:ext cx="2514600" cy="2079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783840" y="51055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5" action="ppaction://hlinksldjump"/>
          </p:cNvPr>
          <p:cNvSpPr/>
          <p:nvPr/>
        </p:nvSpPr>
        <p:spPr>
          <a:xfrm>
            <a:off x="6629400" y="5029200"/>
            <a:ext cx="2286000" cy="1042920"/>
          </a:xfrm>
          <a:custGeom>
            <a:avLst/>
            <a:gdLst>
              <a:gd name="textAreaLeft" fmla="*/ 67320 w 2286000"/>
              <a:gd name="textAreaRight" fmla="*/ 2218680 w 2286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7337" h="21600">
                <a:moveTo>
                  <a:pt x="0" y="0"/>
                </a:moveTo>
                <a:lnTo>
                  <a:pt x="47337" y="0"/>
                </a:lnTo>
                <a:lnTo>
                  <a:pt x="47337" y="21600"/>
                </a:lnTo>
                <a:lnTo>
                  <a:pt x="0" y="21600"/>
                </a:lnTo>
                <a:close/>
              </a:path>
              <a:path fill="lightenLess" w="47337" h="21600">
                <a:moveTo>
                  <a:pt x="0" y="0"/>
                </a:moveTo>
                <a:lnTo>
                  <a:pt x="47337" y="0"/>
                </a:lnTo>
                <a:lnTo>
                  <a:pt x="45937" y="1400"/>
                </a:lnTo>
                <a:lnTo>
                  <a:pt x="1400" y="1400"/>
                </a:lnTo>
                <a:close/>
              </a:path>
              <a:path fill="darken" w="47337" h="21600">
                <a:moveTo>
                  <a:pt x="47337" y="0"/>
                </a:moveTo>
                <a:lnTo>
                  <a:pt x="47337" y="21600"/>
                </a:lnTo>
                <a:lnTo>
                  <a:pt x="45937" y="20200"/>
                </a:lnTo>
                <a:lnTo>
                  <a:pt x="45937" y="1400"/>
                </a:lnTo>
                <a:close/>
              </a:path>
              <a:path fill="darkenLess" w="47337" h="21600">
                <a:moveTo>
                  <a:pt x="47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37" y="20200"/>
                </a:lnTo>
                <a:close/>
              </a:path>
              <a:path fill="lighten" w="47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Ulysses S. Gra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njoyed driving his carriage too 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general who led his army to a Civil War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dressed like a racecar dri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28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86200" y="4800600"/>
            <a:ext cx="1685880" cy="12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0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rId4" action="ppaction://hlinksldjump"/>
          </p:cNvPr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Theodore Roosevel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d to play with his children and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active person - war hero, Nobel peace prize winner, conservationist, and outdoor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th president of the United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Remember…he was the one who was doing many activities, like hunting and rowing a bo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4800600"/>
            <a:ext cx="153036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71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676520" y="2590920"/>
            <a:ext cx="56862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y Again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009520" cy="19432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315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334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828800" y="1600200"/>
            <a:ext cx="57196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0000"/>
                    </a:gs>
                    <a:gs pos="100000">
                      <a:srgbClr val="66ccff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gratula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ccff"/>
                  </a:gs>
                  <a:gs pos="50000">
                    <a:srgbClr val="ff0000"/>
                  </a:gs>
                  <a:gs pos="100000">
                    <a:srgbClr val="66ccff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0000"/>
                    </a:gs>
                    <a:gs pos="100000">
                      <a:srgbClr val="66ccff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ou Did It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ccff"/>
                  </a:gs>
                  <a:gs pos="50000">
                    <a:srgbClr val="ff0000"/>
                  </a:gs>
                  <a:gs pos="100000">
                    <a:srgbClr val="66ccff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rcRect l="15053" t="0" r="15053" b="0"/>
          <a:stretch/>
        </p:blipFill>
        <p:spPr>
          <a:xfrm>
            <a:off x="3809880" y="38098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Presidents Are Mad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hfi.org/tbdf/Portals/0/North%20Braddock/george-washingt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UDr9KJdi9j7NTM:http://easyquestion.net/thinkagain/wp-content/uploads/2007/12/thomas-jeffers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TmquYF3LRhT61M:http://www.visitingdc.com/images/andrew-jackson-picture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dzRCwHuN7FGjKM:http://www.stab.org/faculty/klevin/Klevin/Web/Lincoln/lincoln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HRxL_5opgyZO7M:http://static.howstuffworks.com/gif/ulysses-s-grant-national-historic-site-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bn0.google.com/images?q=tbn:nQi9p2yX-R20JM:http://www.awma.org/images/3theodore-roosevelt-pictu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a4medhy4Kg_CSM:http://upload.wikimedia.org/wikipedia/commons/thumb/8/86/William_Howard_Taft.jpg/463px-William_Howard_Taf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8cAFwp8I7RqHEM:http://www.michaelmcfadyenscuba.info/images/coolcal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7ZjBBJncjzc7dM:http://upload.wikimedia.org/wikipedia/commons/thumb/a/ae/Franklin_Delano_Roosevelt_1933.png/607px-Franklin_Delano_Roosevelt_1933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xRY6_5CWUDM-TM:http://startupblog.files.wordpress.com/2007/11/jfk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2NK_i1RAe9tJwM:http://obits.eons.com/obits/tributes/richard_nixon/2395-2-photo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Y5K5LS58FljjmM:http://www.visitingdc.com/images/gerald-ford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-PkL-eHg85bgdM:http://upload.wikimedia.org/wikipedia/commons/thumb/4/4c/Jimmy_Carter.jpg/405px-Jimmy_Carte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AH9_hlsR_c_YJM:http://images.huffingtonpost.com/2007-09-08-RonaldReagan198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4umW7seZ4x5RgM:http://www.cooperativeresearch.org/events-images/202_george_bush_s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mNEHfBkrTm3J6M:http://www.visitingdc.com/images/bill-clinton-pictur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bn0.google.com/images?q=tbn:gjhdxBrBc023cM:http://www.chrisabraham.com/President-George-W-Bush-Official-Portrai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mithsonian.kids.us/president/gallery/gallery1.cfm?section=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redits Continued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dobetutorialz.com/content_images/AdobePhotoshop/MICKM/RetroStars/sta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google.com/imgres?imgurl=http://bp1.blogger.com/_JmsnoOMVhh4/R0o9n4R2tSI/AAAAAAAAAZU/VUFo6CySiOs/s400/bsilvia_grunge_stars_photoshop_brush.jpg&amp;imgrefurl=http://graphics-illustrations.blogspot.com/2007/11/photoshop-brushes-free-download-grunge.html&amp;h=330&amp;w=400&amp;sz=45&amp;hl=en&amp;start=32&amp;um=1&amp;tbnid=5qER7Eqodd7JOM:&amp;tbnh=102&amp;tbnw=124&amp;prev=/images%3Fq%3Dstars%26start%3D18%26ndsp%3D18%26um%3D1%26hl%3Den%26sa%3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oma.edu/pubs/nb/4_19_04/images/thumbsup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0:18Z</dcterms:created>
  <dc:creator>Help Desk</dc:creator>
  <dc:description/>
  <cp:keywords/>
  <dc:language>en-US</dc:language>
  <cp:lastModifiedBy>Julie Hranica</cp:lastModifiedBy>
  <cp:lastPrinted>1904-01-01T00:00:00Z</cp:lastPrinted>
  <dcterms:modified xsi:type="dcterms:W3CDTF">2008-03-25T21:36:11Z</dcterms:modified>
  <cp:revision>55</cp:revision>
  <dc:subject/>
  <dc:title>PowerPoint Presentation</dc:title>
</cp:coreProperties>
</file>